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EF4-5BC7-4102-BA78-CBA82BF1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737-CDC7-44FD-9015-D8BE6083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F31-D9DA-4E7A-A855-0F34B359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F57-C817-41EC-9997-1AEDB9E2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5DD-BF77-4EEC-9525-DF7B37B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E64-ED19-46C5-8CE8-A4819D7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B92-D3ED-461A-9080-521752AB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88C-E59C-4B4B-BC21-74A96C24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DF3-713F-4F50-AC58-D1686D5E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E93-0F54-4A10-B7E3-13CFF48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F0E-A46B-4D59-A5D5-0B333CE5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932-BFFC-4F6D-BD6B-F4C7E311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2E1-D8DB-4545-8D06-D31F27F7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336680"/>
            <a:ext cx="4724640" cy="418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495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136-E66F-45A4-A43A-0E980B5690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985920" cy="361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275000" cy="13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74B-E01C-4885-A686-7B8A4EB4FF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39920"/>
            <a:ext cx="6858000" cy="437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D8E-3157-498E-BF01-CFEC7C6F5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36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449568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0A0-C981-493A-B9A8-2F0A8379C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11120"/>
            <a:ext cx="72388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65760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512-0C64-4A31-A4C5-5EDD3277DF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364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4114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F29-985E-4DFD-ACD5-56E037781F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8098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724640" cy="26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5000" y="365760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57F-9776-4FFC-9C68-A41D34FD5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69120" cy="3003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CB-E5A3-4FD9-9828-DACB67AE6A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77320" cy="302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7FB-D8B5-4561-A208-25FA129907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Standard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56120" y="1295280"/>
            <a:ext cx="2590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ded Respons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130640" cy="301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24480" y="2057400"/>
            <a:ext cx="4619520" cy="15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MT Item Specif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C96-101A-4028-B68D-BF9958EEB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22:15:00Z</dcterms:created>
  <dc:creator>Joyce Waid</dc:creator>
  <dc:description/>
  <dc:language>en-US</dc:language>
  <cp:lastModifiedBy>Joyce Waid</cp:lastModifiedBy>
  <dcterms:modified xsi:type="dcterms:W3CDTF">2006-04-01T22:15:05Z</dcterms:modified>
  <cp:revision>1</cp:revision>
  <dc:subject/>
  <dc:title>Content Standard 9</dc:title>
</cp:coreProperties>
</file>