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583-574F-441B-8B31-CB21C32F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DB5-6A44-4A82-B42A-566A3DF1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4A6-729C-4094-8D68-9BC5932F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B23-F885-4BC1-86CB-9242DE21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BF6-40F8-4514-8420-E83F2FD8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875-5DB1-4296-9CC5-6B24C55E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AEC-22BE-43A4-9485-130BA623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7F2-F907-43AA-925B-C23845E3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C80-08B0-4120-9687-9DE69FDD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865-BF25-4843-9E60-2F44D24B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546-B9DE-4E94-9B6B-E3D0CB0E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80B-8DBD-45C4-B85C-30F8B414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204B-A972-4EB2-BF32-7D39DD98B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1336680"/>
            <a:ext cx="4724640" cy="418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495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D91-F351-430B-9EA3-77E54B7D8C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985920" cy="361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275000" cy="13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7CD-EE47-4EFA-AA8A-1F375531EE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339920"/>
            <a:ext cx="6858000" cy="437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C25-1BB8-47C2-8B63-358096FE33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436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449568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227-0218-4E70-B9A9-2C08490193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311120"/>
            <a:ext cx="7238880" cy="4470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6576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4E0-D930-4F0B-853D-ED3A3AE704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364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4114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261-8A03-4788-AC3B-697650CFED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80988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724640" cy="26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36576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1C0-6E5F-44FA-842B-A722CF43AB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369120" cy="3003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B4B-CE29-4AA1-A58C-61F496F4DE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077320" cy="302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40A-5766-4B52-87B0-414B4DA6B9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130640" cy="301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24480" y="2057400"/>
            <a:ext cx="4619520" cy="155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AD6-E99A-4F4B-A0C8-3007953B63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15:00Z</dcterms:created>
  <dc:creator>Joyce Waid</dc:creator>
  <dc:description/>
  <dc:language>en-US</dc:language>
  <cp:lastModifiedBy>Joyce Waid</cp:lastModifiedBy>
  <dcterms:modified xsi:type="dcterms:W3CDTF">2006-04-01T22:15:05Z</dcterms:modified>
  <cp:revision>1</cp:revision>
  <dc:subject/>
  <dc:title>Content Standard 9</dc:title>
</cp:coreProperties>
</file>