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15D-3689-4F90-98BC-BCB80657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076-D009-474D-AB5C-F266A9E5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98F-9270-4E1E-87B2-BDC8E69A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DFD-B6DC-41B9-ABA4-8DD5DDB9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837-52F8-4004-BDEA-688B64E5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78D-1C01-45A0-A48B-A15687F9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C31-5592-444E-B35F-D22AD743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C6E-4D07-4552-95E7-3B71BB1A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090-7BE4-407B-9F0D-9607579E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8372-B581-497A-82DE-A1F945D9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F29-BD84-4B6F-AD7C-CB7B5EEA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0110-2B17-4A7C-A6FC-1EE670AC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C65F-F3DF-4557-BB93-3A046C95B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315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5120" y="3809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39A-2445-441E-9377-D1E42ECD5A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453160" cy="2435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91B-2135-452A-B38A-0197CBE527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305920" cy="399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0120" y="4343400"/>
            <a:ext cx="228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961-2B64-4E57-A7C5-AEC7C6555C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728720"/>
            <a:ext cx="7924680" cy="4111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95480" y="44956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981-5F23-4170-9064-04B7E67DD5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767360" cy="228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A2B-906A-42D7-9407-62D15EED78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7924680" cy="2301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EA0-BEF6-4DBB-A85E-21721B43B8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835680" cy="187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3886200"/>
            <a:ext cx="6781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E91-1AB0-4F1F-B634-E4E2DA6B66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112240" cy="2340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65B-75AA-460B-AC3F-335AB92DC8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CB0-D52B-442F-94E6-BB986169E5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229600" cy="2420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0CD-C227-4532-9787-B529C52D98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6:52:49Z</dcterms:created>
  <dc:creator>Joyce Waid</dc:creator>
  <dc:description/>
  <dc:language>en-US</dc:language>
  <cp:lastModifiedBy>Joyce Waid</cp:lastModifiedBy>
  <dcterms:modified xsi:type="dcterms:W3CDTF">2006-04-01T23:31:23Z</dcterms:modified>
  <cp:revision>5</cp:revision>
  <dc:subject/>
  <dc:title>Content Standard 1</dc:title>
</cp:coreProperties>
</file>