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7762-A4E0-4D22-950B-9745DBCA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9DB4-BF37-464F-AA88-45D645CC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1E19-C87E-4BD1-B245-A68BA7C3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74C-7F14-4CFA-B234-65F9F2D4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DD84-9DA1-4838-B035-C7AE28F3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0C0B-261E-4A63-ACC4-9EC6D86E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90B-00EC-4359-9C87-C2525436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A4B4-68FD-4171-B516-43D48C06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94D0-5BC8-4D53-A234-FBF17D7E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72ED-B48C-43C2-B5D5-F1A15EC9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FDAB-3DD1-4C20-A699-EE4A9053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D78-0B96-4522-9481-6D870C8C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A963-EEF8-450F-BE07-A3C560FD5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772400" cy="3154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05120" y="3809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BB5-09FE-4D3A-AEDD-0C7BD0B184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453160" cy="2435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81F7-0835-4AD4-86A8-02DDEDF73E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8305920" cy="399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0120" y="4343400"/>
            <a:ext cx="228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0F4A-1A2E-4745-B99F-E8595F463F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728720"/>
            <a:ext cx="7924680" cy="4111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95480" y="449568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F6F-065F-491A-9F67-514D0E4F2D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767360" cy="2284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CAF0-149F-476B-94F4-76A645A85B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7924680" cy="2301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EFBA-DA5A-4218-8045-171D006A99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835680" cy="1874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3886200"/>
            <a:ext cx="6781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6F45-E36F-466A-9C93-72B117993B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8112240" cy="2340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807-002C-40B7-9B72-09016837D7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362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9DAF-EA7C-4354-A4D0-F49DFB210D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229600" cy="2420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46C-9E1B-4072-A84F-EF2EE2DBDE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6:52:49Z</dcterms:created>
  <dc:creator>Joyce Waid</dc:creator>
  <dc:description/>
  <dc:language>en-US</dc:language>
  <cp:lastModifiedBy>Joyce Waid</cp:lastModifiedBy>
  <dcterms:modified xsi:type="dcterms:W3CDTF">2006-04-01T23:31:23Z</dcterms:modified>
  <cp:revision>5</cp:revision>
  <dc:subject/>
  <dc:title>Content Standard 1</dc:title>
</cp:coreProperties>
</file>