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F71-A361-4BE0-A11B-B2921973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314-EC91-40EF-BC10-630E4C1E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CE0-7383-4376-9650-642830B8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82C-3DE3-428B-9F41-A6D98F08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0BD-374E-4E6B-9324-2F96428B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7AA-A2F6-49A5-957D-FB5D795C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EA9-5C1F-4DF7-AD73-DFF69033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319-7294-4A5A-AB93-EE5141FD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72F-FB1C-4CD5-A6EC-2A3ABFE4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CB2-06A4-4D2A-847E-2AE3D6E9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414-DDB2-48EB-A3E1-31D9758B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9DB-CFB1-4D4C-A6B1-7569361D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60DA-83E2-4AFE-99C5-9CFCCE56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311360" cy="3203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4952880"/>
            <a:ext cx="5181480" cy="1063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556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832-8278-429A-A219-802C5DEC80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1322280"/>
            <a:ext cx="5029200" cy="493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5867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CC1-9BB7-4E76-8A97-80DAF4165E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09680" y="18241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161-6CFC-4A7D-B11D-815570EC78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91320" cy="4351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32440" y="121932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F65-B966-406D-890A-92FD09195C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696440" cy="421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52578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F11-8983-42E2-96B1-4F04056EA9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522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29400" y="58672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CA6-42AB-4627-9667-3A1F9FF717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459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14800" y="53341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83A-885C-40F6-9808-58F265BE7B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311720" cy="43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4343400" cy="878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43600" y="35812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24B-9074-4661-9152-AAEC17F2A7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5029200" cy="401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649760" cy="906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1520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767-0009-4F8D-946E-D4790884AE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4311720" cy="420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5029200" cy="961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91320" y="3733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617-35FE-47C2-82AE-F3A51F11AC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343400" cy="3514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69000" y="1828800"/>
            <a:ext cx="4275000" cy="2690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6B7-0BF5-4A7B-801D-E0BB4F22DE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79880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03848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AF3-141E-4287-8DC3-C87F4D1EFB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5:16Z</dcterms:created>
  <dc:creator>Joyce Waid</dc:creator>
  <dc:description/>
  <dc:language>en-US</dc:language>
  <cp:lastModifiedBy>Joyce Waid</cp:lastModifiedBy>
  <dcterms:modified xsi:type="dcterms:W3CDTF">2006-04-01T22:26:15Z</dcterms:modified>
  <cp:revision>2</cp:revision>
  <dc:subject/>
  <dc:title>Content Standard 10</dc:title>
</cp:coreProperties>
</file>