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41A-6C6E-4170-AC33-D432B1B1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DDB-EB4F-46F7-ABE5-4097FD3E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444-F55C-4E5E-BA12-B9394279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D34-B2CD-4BE8-B187-1583B5C9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A00-1482-4C38-973F-ABA1757B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E19-24D3-400D-BA9B-4276006C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E3A-FACE-455A-BB04-DEA69336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CF3-1033-4EC2-A604-F0200E54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78A-E7EE-4E5C-85D0-283648E1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F50-5F6B-4208-A0C9-96A72E11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DB5-483A-4637-B76A-030CC925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082-C82B-4C8A-93E5-9565F66F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96AE-C2FB-4ED9-979A-FB206A06C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311360" cy="320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33720" y="4952880"/>
            <a:ext cx="5181480" cy="1063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556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A8F-EB63-4E83-807E-C27CB5D27B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1322280"/>
            <a:ext cx="5029200" cy="4932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412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AE8-5D3A-4360-B3CB-25D177C7A3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09680" y="18241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3244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9C40-3590-4F7C-9343-33AB33B27E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791320" cy="4351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3244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8C3-C6A9-45A9-B7D7-C221746C86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696440" cy="421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5257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3D81-73FF-4CC7-9A9F-2493477111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522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29400" y="58672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AA8-632B-408B-9126-3E21A089FC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410080" cy="459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14800" y="5334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CD5-6C6D-4673-8E63-6692E1467C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311720" cy="43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4343400" cy="878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43600" y="35812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760-D6E1-480D-AF27-C5179AD7D0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5029200" cy="4010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649760" cy="906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315200" y="3657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313-5F6A-40EE-A4D8-5DC76D9D94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4311720" cy="4203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5029200" cy="961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91320" y="3733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0C3-E537-4F41-9B1C-DE9C283049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343400" cy="3514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69000" y="1828800"/>
            <a:ext cx="4275000" cy="2690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72200" y="41911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17F-A196-41AC-BA55-D63419F98D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79880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38480" y="5943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B3E-5EB6-4613-9F1B-65CFC3CEDC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25:16Z</dcterms:created>
  <dc:creator>Joyce Waid</dc:creator>
  <dc:description/>
  <dc:language>en-US</dc:language>
  <cp:lastModifiedBy>Joyce Waid</cp:lastModifiedBy>
  <dcterms:modified xsi:type="dcterms:W3CDTF">2006-04-01T22:26:15Z</dcterms:modified>
  <cp:revision>2</cp:revision>
  <dc:subject/>
  <dc:title>Content Standard 10</dc:title>
</cp:coreProperties>
</file>