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C8A-685B-463D-AB5A-F64A572C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910-CE2F-4BF0-ABD5-0CCBC9A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8E4-00F4-441C-8DBF-C9F3FD5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3EA-B559-437C-B1E1-6C6D2765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080-F127-4E6C-AB9A-3637AB5F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5A7-90AF-42DF-91B9-15C9CE1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A33-3EF5-4A3E-B4CF-AD8ED266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4FA-B6F7-4370-8DD0-3C12E3D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E42-7EBA-4E60-950F-E731949C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7B3-2FB7-4BD4-A3A6-AF91FA2B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A95-BDA1-40E0-A929-64928D0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859-418B-460F-897B-7708AE93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895D-B836-4F5E-92DF-33FE2D479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0" y="5410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B4E-4F38-4BDF-981D-1CA07B99F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91720" cy="38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A56-19C0-466B-9DAD-D0716EE25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9000" y="1981080"/>
            <a:ext cx="8955000" cy="372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1219320"/>
            <a:ext cx="2044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DB0-811E-476C-BD11-F386B6F5D7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88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55627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439-652C-4FF6-B20F-0BE2F1969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53341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380-21A6-4503-A1F7-3E0B3C0CD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443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53341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CDF-97EC-4271-BA03-48598F4DE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162920" y="4800600"/>
            <a:ext cx="228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AF4-C6A1-43D8-967F-3325D501F1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9063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05320" y="5943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2D0-28C4-4F62-9A4E-760E948E4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918640" cy="393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36280" y="114300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BD1-C876-4240-9FB9-4D00A512D0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60320" y="129528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55000" cy="44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573-A9EA-4412-9487-D3EFB5E16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60320" y="762120"/>
            <a:ext cx="198216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Ended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867640" cy="523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3B7-63C0-4A5A-9491-59925EC5C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27:00Z</dcterms:created>
  <dc:creator>Joyce Waid</dc:creator>
  <dc:description/>
  <dc:language>en-US</dc:language>
  <cp:lastModifiedBy>Joyce Waid</cp:lastModifiedBy>
  <dcterms:modified xsi:type="dcterms:W3CDTF">2006-04-01T22:50:11Z</dcterms:modified>
  <cp:revision>2</cp:revision>
  <dc:subject/>
  <dc:title>Content Standard 11</dc:title>
</cp:coreProperties>
</file>