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BE4-3F4D-4612-8467-20CF3BDB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FD3-0128-44CC-B936-A89FBFB1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5DA-A42F-4B74-82AA-D6683A0D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974-4DFB-404A-963F-DF296C34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74D-D5BE-46D8-84A3-1DA8C09A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6E3-B82B-4415-A6DA-75B4ED49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B25-C380-4AFA-BD60-0CD5DDBD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12A-724F-4EA5-B0E7-32111EE4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FB1-B3DC-4434-A87A-D5304099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AFD-AF5B-4B92-9DFB-899670F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304-7F62-414A-9FBB-4AEADC69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BD1-2EF0-43E2-B5B1-4A180FA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E9BE-209B-498B-BB83-00887D24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867280" cy="447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0" y="5410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24E-A47E-4EE4-81FF-5D8E9BDC29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991720" cy="388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474-4CF0-45B4-A7F7-3E6C62EAF3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9000" y="1981080"/>
            <a:ext cx="8955000" cy="372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F9F-3F22-41BD-9DC0-E809CBA1F5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488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55627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3F3-1B62-4718-BE9B-A126BC6752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53341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4CA-67BC-487D-A0D5-DC18079E3D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443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62320" y="53341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F46-E2B9-48B9-BA79-B995F1EAF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3432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2920" y="48006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EBE-B741-4D34-804C-E99342FA1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000" y="1219320"/>
            <a:ext cx="906300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5943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AE8-DA90-4FF2-BFB1-C624DF2920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918640" cy="39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36280" y="114300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A19-DD72-4E4A-9B9B-116E6DB3A7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60320" y="12952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5500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213-6392-4717-9B33-982C8027B9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6032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867640" cy="52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753-9453-48BE-BA28-9D0D3A5B96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7:00Z</dcterms:created>
  <dc:creator>Joyce Waid</dc:creator>
  <dc:description/>
  <dc:language>en-US</dc:language>
  <cp:lastModifiedBy>Joyce Waid</cp:lastModifiedBy>
  <dcterms:modified xsi:type="dcterms:W3CDTF">2006-04-01T22:50:11Z</dcterms:modified>
  <cp:revision>2</cp:revision>
  <dc:subject/>
  <dc:title>Content Standard 11</dc:title>
</cp:coreProperties>
</file>