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EDD-A4A5-4FC6-8BC5-8F759D2B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2FF-59C2-42E0-B279-27D3DE19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941-632C-4872-8929-1F37EF52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595-AFB7-4B61-867C-E43B5396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66E-1FFE-420E-B521-A66178B7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AEB-934F-4E7F-89DF-7E50402F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3C9-D75A-4195-B03D-0C9D7ED9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BC0-17A8-418F-B78E-A71529F7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14D-2C55-4915-93E0-D7FEC52D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DEC-89D8-40D2-9AF4-10918D5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87F-C028-4053-9A83-D35DEA10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6A1-DB50-4BEC-9D41-4EA0EF9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E4B1-D70F-40FA-AB6F-F8E8FE96E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80" y="1444680"/>
            <a:ext cx="9026640" cy="39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1320" y="510552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0AA-73E9-4B54-8883-091E370D4D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329080" cy="52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D40-5B97-4026-9B42-EB59CB9087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518440" cy="535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0BA-67D2-42AB-86D7-0A7339143E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4746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67480" y="20574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7BF-997E-4C95-A434-6A9E3DE6F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240440" cy="495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4876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275-E697-4BEA-AD8C-34F20FBF2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095720" cy="437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311720" cy="144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886-EDAB-489C-8D45-1A2702FC46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298680" cy="553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275000" cy="168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5632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63E-8E73-4740-882A-DB6EAA7BC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167360" cy="377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275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30C-8310-4993-BC28-95E4FABFFC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02300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275360" cy="13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507-A95A-4EB1-B6AB-AFC21D0429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59360" cy="29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275360" cy="14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2FC-5874-42CE-9D67-901F884B0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059000" cy="472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434628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6F1-D441-4943-9E97-77B86AC6C4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370160"/>
            <a:ext cx="7750080" cy="548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02A-B365-43D7-BE93-BF97A6BB82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02:12Z</dcterms:created>
  <dc:creator>Joyce Waid</dc:creator>
  <dc:description/>
  <dc:language>en-US</dc:language>
  <cp:lastModifiedBy>Joyce Waid</cp:lastModifiedBy>
  <dcterms:modified xsi:type="dcterms:W3CDTF">2006-04-01T23:09:21Z</dcterms:modified>
  <cp:revision>2</cp:revision>
  <dc:subject/>
  <dc:title>Content Standard 12</dc:title>
</cp:coreProperties>
</file>