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3D5-2007-40FE-9F98-6D1BC66C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385-308D-4AB2-9AF2-74A5382E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8B9-EBB2-4E60-AA68-1161244D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0D0-6B58-4934-A319-74B2D457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F93-7921-4A91-8903-8091198C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35B-C4C9-4C09-845D-3B27FDD9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BC5-F547-4C06-B569-C1E2C811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BA7-C183-4A79-BAC0-0594F99F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D66-2BD6-43C0-B1D4-FDD7DB26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234-2C4D-4EBE-8AF7-8F9FC29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871-520B-482A-A0C3-3F64DBE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E48-C87F-47B9-B05F-EBC1E4B8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DA0F-7DFA-4957-99CD-91EC3D2B8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8680" y="1444680"/>
            <a:ext cx="9026640" cy="396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1320" y="510552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0EA-0C32-4DB2-8FED-AD5C2427D6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329080" cy="52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D3B-AEFA-4AC3-8EE6-BEF45FCC09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518440" cy="535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4BE-3AE4-4ACC-95DD-55483BEAC8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4746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67480" y="20574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969-B259-46B8-984F-08A78EA078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240440" cy="495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4876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4DA-34A1-41DE-93AD-7916C93000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095720" cy="437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4311720" cy="14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FF9-6A92-4A6D-93D3-A3EFCEBB03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3298680" cy="553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275000" cy="168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5632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241-7E2B-45CC-B770-04AF94A0F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167360" cy="377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275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010-4E82-4459-9408-5068EC2E1F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0230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275360" cy="13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66160" y="14479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0C9-1D79-4213-AFE1-6B14B9B644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59360" cy="296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275360" cy="140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362-32CA-44F2-9942-FD4C0BBA29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059000" cy="472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434628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89840" y="19051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779-89F9-43C4-971E-3A98880E0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370160"/>
            <a:ext cx="7750080" cy="548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36280" y="8380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19B-71A4-4F04-A8F5-6E6D86CAF0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02:12Z</dcterms:created>
  <dc:creator>Joyce Waid</dc:creator>
  <dc:description/>
  <dc:language>en-US</dc:language>
  <cp:lastModifiedBy>Joyce Waid</cp:lastModifiedBy>
  <dcterms:modified xsi:type="dcterms:W3CDTF">2006-04-01T23:09:21Z</dcterms:modified>
  <cp:revision>2</cp:revision>
  <dc:subject/>
  <dc:title>Content Standard 12</dc:title>
</cp:coreProperties>
</file>