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7DB-5AE6-4A50-8892-D4984A4E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E49-6532-4A7B-82E2-29C3D0BE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B41-FF43-459E-B35D-70498AE1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85F-C17A-405E-A241-6E09E924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14F-269B-486B-9EB1-F1EEB3C9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76E-EBB7-4CB9-9AED-F4FE0444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D87-395E-4B6D-92DA-443E6C38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B09-FEE4-4461-9BBB-9500A2B4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7A6-0A04-40A2-A14E-0D7C4F15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FC7F-E7DE-4C74-B277-CC792BBA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50F2-3B09-4A60-9DBC-7707F3CE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30C-73BA-4CF7-A968-3254C309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4837-CEEE-4817-AD19-A0332A8E5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62520" y="5715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B65-5BC2-4234-AB92-F72EF30363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02040" y="838080"/>
            <a:ext cx="456228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A93-447E-42C0-950C-4F0C426BCE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931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249-F920-4710-B6A0-16BF513CE5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8120" y="849240"/>
            <a:ext cx="5610240" cy="60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6F7-C8C5-44FB-A2B1-E570E24D64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1000" y="1600200"/>
            <a:ext cx="9063000" cy="39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E20-DFB4-4C2B-960D-BC8C283DD3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30640" cy="3338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311720" cy="279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458200" y="40384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574-B527-44D9-A645-4CD4A87980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95720" cy="3419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311720" cy="310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24480" y="40384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F80-D2F7-4D87-AD23-385988B001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625760"/>
            <a:ext cx="7391520" cy="3641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15000" y="46483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619-C16A-4FAF-B8A0-FFDD6DAEE9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988240" cy="340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43200" y="43434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D76-2C4D-44E9-B75B-26543CB278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4023000" cy="469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4275000" cy="223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81D-4A9C-44D5-AA66-E01286B2C7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311720" cy="37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5E0-CD6B-450C-84F5-5FB85AA349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022640" cy="250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19720" y="2514600"/>
            <a:ext cx="4311360" cy="26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DBF-A65D-40BB-91E3-603BF5A7C4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880" y="7621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6372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3F2-F200-4D3B-A3DC-A86CC664D3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3:19:32Z</dcterms:created>
  <dc:creator>Joyce Waid</dc:creator>
  <dc:description/>
  <dc:language>en-US</dc:language>
  <cp:lastModifiedBy>Joyce Waid</cp:lastModifiedBy>
  <dcterms:modified xsi:type="dcterms:W3CDTF">2006-04-01T23:24:18Z</dcterms:modified>
  <cp:revision>2</cp:revision>
  <dc:subject/>
  <dc:title>Content Standard 13</dc:title>
</cp:coreProperties>
</file>