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B1B-9516-45EC-BEAC-413F924A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ED5-1164-4D5A-9C55-0CF06C62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C6B-4801-480F-970E-A01927F7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289-C222-4A25-848B-40D023A9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7E1-2CAE-4063-BA45-A8DCDF36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7CD-0A1E-4F63-B73E-69506E43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D40-97F3-43B8-9266-2C57E299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EE0-FB60-4FEC-A1EF-70ECE34B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332-AAFC-49C9-A788-6C2507EF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107-BA95-405C-A6FB-9434B4D7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66C-4342-40FB-995C-3087139C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995-D9D2-4ACB-98D1-ADD77631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1C57-74DD-4E0A-889C-10EF50236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62520" y="5715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E2B-03FA-4A22-8C2F-BD7AB59BAD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02040" y="838080"/>
            <a:ext cx="456228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28D-3F89-44DE-8E45-9251551710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931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084-7A3E-4A07-B981-253A65CD91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8120" y="849240"/>
            <a:ext cx="5610240" cy="60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023-720E-4B10-BAA8-EBC6B85298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4480" y="9907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1000" y="1600200"/>
            <a:ext cx="9063000" cy="39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284-DAE1-430B-99BE-2A322EE924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30640" cy="3338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4311720" cy="279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458200" y="4038480"/>
            <a:ext cx="228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F701-C0B4-4B2D-B3A1-7FDF75DF68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95720" cy="3419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311720" cy="310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324480" y="403848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890-16EC-408F-9015-9010192720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625760"/>
            <a:ext cx="7391520" cy="3641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15000" y="46483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255-6E17-4DAC-A7EB-AFF47B3B31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988240" cy="3409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43200" y="43434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575-9A4D-4521-B2E1-55E681DD65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4023000" cy="469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4275000" cy="223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725-1315-42EC-BDCA-1F4588A8C8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311720" cy="37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F7D-C96A-46DF-B276-25B9E8ABFB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2600" y="1484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022640" cy="250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19720" y="2514600"/>
            <a:ext cx="4311360" cy="26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065-C330-4337-87FC-AF2CA1D085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880" y="7621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838080"/>
            <a:ext cx="6372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CF8-8851-451A-90CF-CF3F373A91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3:19:32Z</dcterms:created>
  <dc:creator>Joyce Waid</dc:creator>
  <dc:description/>
  <dc:language>en-US</dc:language>
  <cp:lastModifiedBy>Joyce Waid</cp:lastModifiedBy>
  <dcterms:modified xsi:type="dcterms:W3CDTF">2006-04-01T23:24:18Z</dcterms:modified>
  <cp:revision>2</cp:revision>
  <dc:subject/>
  <dc:title>Content Standard 13</dc:title>
</cp:coreProperties>
</file>