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8.wmf" ContentType="image/x-wmf"/>
  <Override PartName="/ppt/media/image9.png" ContentType="image/png"/>
  <Override PartName="/ppt/media/image1.png" ContentType="image/png"/>
  <Override PartName="/ppt/media/image3.wmf" ContentType="image/x-wmf"/>
  <Override PartName="/ppt/media/image4.wmf" ContentType="image/x-wmf"/>
  <Override PartName="/ppt/media/image13.wmf" ContentType="image/x-wmf"/>
  <Override PartName="/ppt/media/image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0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7CC5-D3E0-48FD-B9D6-C0DE48770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4CAE-81B5-49FB-B964-A0CC633E2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5A69-0EB7-49D6-A1B1-30E42F016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61B2-610A-46EC-AB4C-649CAD226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0643-E465-457D-8971-B73884239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5424-7502-46F6-A7F6-421531BE3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8A8D-1830-4322-9281-5ACEC5532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B6B4-D4B8-428A-AAC6-D2588D3C4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1CB1-2A0E-4AA3-9987-7047174A3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9AAC-3099-49DF-A643-9FE3C6A7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04F2-1A9D-4BB2-9399-2BF134A5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8DE2-42D2-4ABE-A5B5-18CE0056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455C9-7E76-40A8-9945-E85D48461F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620120" cy="3149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562720" y="3886200"/>
            <a:ext cx="304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RS Question Icon" descr="PRS Question Icon"/>
          <p:cNvPicPr/>
          <p:nvPr/>
        </p:nvPicPr>
        <p:blipFill>
          <a:blip r:embed="rId2"/>
          <a:stretch/>
        </p:blipFill>
        <p:spPr>
          <a:xfrm>
            <a:off x="63360" y="622296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F613-7F62-4433-B399-0A2D5DBC152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7772400" cy="26956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156120" y="12193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RS Question Icon" descr="PRS Question Icon"/>
          <p:cNvPicPr/>
          <p:nvPr/>
        </p:nvPicPr>
        <p:blipFill>
          <a:blip r:embed="rId2"/>
          <a:stretch/>
        </p:blipFill>
        <p:spPr>
          <a:xfrm>
            <a:off x="63360" y="622296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5448-FBD2-4947-A7A8-1CCBF1AF42E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924680" cy="2735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156120" y="12193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RS Question Icon" descr="PRS Question Icon"/>
          <p:cNvPicPr/>
          <p:nvPr/>
        </p:nvPicPr>
        <p:blipFill>
          <a:blip r:embed="rId2"/>
          <a:stretch/>
        </p:blipFill>
        <p:spPr>
          <a:xfrm>
            <a:off x="63360" y="622296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E000-40AD-4565-82A6-17FEF5AF394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8229600" cy="24336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156120" y="12193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RS Question Icon" descr="PRS Question Icon"/>
          <p:cNvPicPr/>
          <p:nvPr/>
        </p:nvPicPr>
        <p:blipFill>
          <a:blip r:embed="rId2"/>
          <a:stretch/>
        </p:blipFill>
        <p:spPr>
          <a:xfrm>
            <a:off x="63360" y="622296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265F-C9E3-4586-898C-AB54AB065B6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8229600" cy="23893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156120" y="12193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RS Question Icon" descr="PRS Question Icon"/>
          <p:cNvPicPr/>
          <p:nvPr/>
        </p:nvPicPr>
        <p:blipFill>
          <a:blip r:embed="rId2"/>
          <a:stretch/>
        </p:blipFill>
        <p:spPr>
          <a:xfrm>
            <a:off x="63360" y="622296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F7B4-35E2-4A2F-B7A3-5E0430FCED9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077320" cy="3276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657600" y="4038480"/>
            <a:ext cx="228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RS Question Icon" descr="PRS Question Icon"/>
          <p:cNvPicPr/>
          <p:nvPr/>
        </p:nvPicPr>
        <p:blipFill>
          <a:blip r:embed="rId2"/>
          <a:stretch/>
        </p:blipFill>
        <p:spPr>
          <a:xfrm>
            <a:off x="63360" y="622296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BCA2-748F-4448-B78B-41438339EB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3289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715000" y="3962520"/>
            <a:ext cx="228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RS Question Icon" descr="PRS Question Icon"/>
          <p:cNvPicPr/>
          <p:nvPr/>
        </p:nvPicPr>
        <p:blipFill>
          <a:blip r:embed="rId2"/>
          <a:stretch/>
        </p:blipFill>
        <p:spPr>
          <a:xfrm>
            <a:off x="63360" y="622296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23D9-C71D-4629-854A-3B192A5E021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7848720" cy="3552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81080" y="434340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RS Question Icon" descr="PRS Question Icon"/>
          <p:cNvPicPr/>
          <p:nvPr/>
        </p:nvPicPr>
        <p:blipFill>
          <a:blip r:embed="rId2"/>
          <a:stretch/>
        </p:blipFill>
        <p:spPr>
          <a:xfrm>
            <a:off x="63360" y="622296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12B8-09E5-49BE-92F7-E863F6ED1DD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3520" y="1596960"/>
            <a:ext cx="8153280" cy="36972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620120" y="4419720"/>
            <a:ext cx="1522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RS Question Icon" descr="PRS Question Icon"/>
          <p:cNvPicPr/>
          <p:nvPr/>
        </p:nvPicPr>
        <p:blipFill>
          <a:blip r:embed="rId2"/>
          <a:stretch/>
        </p:blipFill>
        <p:spPr>
          <a:xfrm>
            <a:off x="63360" y="622296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7074-E416-4686-9BE1-1497CB6F8D5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305560" cy="3353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828800" y="4495680"/>
            <a:ext cx="2286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RS Question Icon" descr="PRS Question Icon"/>
          <p:cNvPicPr/>
          <p:nvPr/>
        </p:nvPicPr>
        <p:blipFill>
          <a:blip r:embed="rId2"/>
          <a:stretch/>
        </p:blipFill>
        <p:spPr>
          <a:xfrm>
            <a:off x="63360" y="622296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B85B-AA6F-420C-9DA7-104C22F04E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077320" cy="3662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733920" y="4495680"/>
            <a:ext cx="228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RS Question Icon" descr="PRS Question Icon"/>
          <p:cNvPicPr/>
          <p:nvPr/>
        </p:nvPicPr>
        <p:blipFill>
          <a:blip r:embed="rId2"/>
          <a:stretch/>
        </p:blipFill>
        <p:spPr>
          <a:xfrm>
            <a:off x="63360" y="622296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0280-FAFB-4EB7-8050-516B39A40A4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7696440" cy="3193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733920" y="4191120"/>
            <a:ext cx="2286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RS Question Icon" descr="PRS Question Icon"/>
          <p:cNvPicPr/>
          <p:nvPr/>
        </p:nvPicPr>
        <p:blipFill>
          <a:blip r:embed="rId2"/>
          <a:stretch/>
        </p:blipFill>
        <p:spPr>
          <a:xfrm>
            <a:off x="63360" y="622296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3EB4-CC69-4474-93BD-338B972CE7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596960"/>
            <a:ext cx="8305920" cy="3699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809880" y="4495680"/>
            <a:ext cx="228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RS Question Icon" descr="PRS Question Icon"/>
          <p:cNvPicPr/>
          <p:nvPr/>
        </p:nvPicPr>
        <p:blipFill>
          <a:blip r:embed="rId2"/>
          <a:stretch/>
        </p:blipFill>
        <p:spPr>
          <a:xfrm>
            <a:off x="63360" y="622296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C456-E14C-4F1A-A53B-36FB8A9A8F3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1T17:06:34Z</dcterms:created>
  <dc:creator>Joyce Waid</dc:creator>
  <dc:description/>
  <dc:language>en-US</dc:language>
  <cp:lastModifiedBy>DCS</cp:lastModifiedBy>
  <dcterms:modified xsi:type="dcterms:W3CDTF">2006-09-13T16:17:05Z</dcterms:modified>
  <cp:revision>7</cp:revision>
  <dc:subject/>
  <dc:title>Content Standard 2</dc:title>
</cp:coreProperties>
</file>