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70A-2396-4D0D-923E-8640AD9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42F-7050-49DD-B7C6-56525275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006-69EA-4CF0-A772-42F907A2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B5A-9678-43E5-B3C5-4BBFCA81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6F7-7A59-4E3D-B056-6B3B1E5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672-65FA-4218-B262-869FBA7D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AB5-2788-4BC2-BF95-FCA389C4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8F0C-3AD7-41B4-856D-CCC6401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D40-B33E-467E-8004-70F8CBF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7A5-C8DA-4C00-95C9-30F3E58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357-BFA0-469C-B256-EA407BC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83A-5E7F-413E-88AA-7305229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7B98-DB88-4ACD-A4A7-5D3842C8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314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562720" y="38862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33C-F8D8-45AD-981F-3617E4A59A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269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EEC-0BBF-47C4-A324-027392803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C82-A0B3-4BCA-9252-1004BF95C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24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D6E-CB37-4244-A140-6E12326AD1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238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5612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905-795D-4152-9CFB-783576DEA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57600" y="4038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8B2-850B-4FD0-8AC0-BD04883A2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2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715000" y="396252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038-D486-45D0-800D-50D2885E0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3552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810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FCA-0904-4799-8440-33778E4D1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0120" y="44197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A5D-4224-458C-B987-1DD22990F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05560" cy="3353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340-A765-469D-9570-7619838C36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3662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33920" y="44956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542-FB86-43AA-AD8D-D72E961A48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96440" cy="319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33920" y="41911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0A5-813A-4FE2-96C0-6955E21D8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596960"/>
            <a:ext cx="8305920" cy="3699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9880" y="44956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RS Question Icon" descr="PRS Question Icon"/>
          <p:cNvPicPr/>
          <p:nvPr/>
        </p:nvPicPr>
        <p:blipFill>
          <a:blip r:embed="rId2"/>
          <a:stretch/>
        </p:blipFill>
        <p:spPr>
          <a:xfrm>
            <a:off x="63360" y="62229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ECE-9958-4804-9B80-8F4915025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06:34Z</dcterms:created>
  <dc:creator>Joyce Waid</dc:creator>
  <dc:description/>
  <dc:language>en-US</dc:language>
  <cp:lastModifiedBy>DCS</cp:lastModifiedBy>
  <dcterms:modified xsi:type="dcterms:W3CDTF">2006-09-13T16:17:05Z</dcterms:modified>
  <cp:revision>7</cp:revision>
  <dc:subject/>
  <dc:title>Content Standard 2</dc:title>
</cp:coreProperties>
</file>