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255-DFE9-451C-8E86-B822DF36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53B-B75B-47D4-A769-30578B0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714-71F6-47E2-8DDE-C83936B3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DBB-F7B2-406F-B6FD-6E945F5E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BB8-30D5-44C3-9ABE-E3E09DB6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6B0-C0C9-4905-B605-552D1D2C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B63-6BA3-47A3-B6B6-D3B6D50F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0F4-84D9-4E5D-B072-08EED3E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312-5318-4E79-AA92-DF02F0A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82E-2DF9-4BA4-9CF3-445555A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635-1E6A-4630-8BF3-D7EFF65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438-93AB-4C40-8A37-EE536E3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2317-6147-433E-9424-58A2C7E2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500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EC9-D3C1-4709-B77E-4CAD24FD71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378080"/>
            <a:ext cx="5943600" cy="484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90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F2A-0E62-451C-8B7F-FEBF83737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1512720"/>
            <a:ext cx="5943600" cy="4700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00400" y="39625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C00-3925-4246-8194-033841876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19760" cy="404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8862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70D-8E70-419C-A382-6D13007617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0384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19B-770A-4610-AC28-C864ED7B0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848720" cy="318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91520" y="4038480"/>
            <a:ext cx="3045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1F5-5358-40CB-B3E8-AB1E70C6D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498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5257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97F-19F9-494E-A6CD-B26DF5E95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629400" cy="480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5410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DD4-1344-4465-8268-E518164FF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03:04:00Z</dcterms:created>
  <dc:creator>Joyce Waid</dc:creator>
  <dc:description/>
  <dc:language>en-US</dc:language>
  <cp:lastModifiedBy>Joyce Waid</cp:lastModifiedBy>
  <dcterms:modified xsi:type="dcterms:W3CDTF">2006-04-01T03:04:14Z</dcterms:modified>
  <cp:revision>1</cp:revision>
  <dc:subject/>
  <dc:title>Content Standard 3</dc:title>
</cp:coreProperties>
</file>