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C3E-0B57-44C6-A03F-E4BA21F0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4EE-3EFA-4407-94DE-11545DF8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1D5-98DF-4E86-A079-CE68B764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710-3A5E-4F3E-B25B-B1ADB44E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7B1-8325-4D7E-B7F7-C059BA7F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80E-4CEB-47E1-9BFA-979E55D6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E4C-8502-4D4C-B156-79EF18A4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E30-E546-49C6-B1A5-0B9F1C62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803-22FA-4B45-8B92-FBDA7ACC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CCF-5B40-46FB-A1EA-ABB5059D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4EC-6839-419B-9CC4-991851B8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480-6561-4956-91E8-2E2EFD35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D4FD-AE4B-452E-9DA8-5B0FCB30C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172200" cy="500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9AA-8D36-43CF-B1CC-9BA5991B41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1378080"/>
            <a:ext cx="5943600" cy="48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9C7-F66D-4DFF-A95B-A2E2DA0EA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1512720"/>
            <a:ext cx="5943600" cy="470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3962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BCD-421C-42C6-8F25-662B0B178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04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8862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47C-B910-411C-9904-8D5257DF02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75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40384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A99-5BB9-4249-AE82-BC5290020D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318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91520" y="403848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2AF-C552-4E6C-A52E-ACF775E002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498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544-91BA-4A9D-A917-525B4D562A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29400" cy="480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5410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D4A-1CF6-4E1B-822D-919BC932B5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00Z</dcterms:created>
  <dc:creator>Joyce Waid</dc:creator>
  <dc:description/>
  <dc:language>en-US</dc:language>
  <cp:lastModifiedBy>Joyce Waid</cp:lastModifiedBy>
  <dcterms:modified xsi:type="dcterms:W3CDTF">2006-04-01T03:04:14Z</dcterms:modified>
  <cp:revision>1</cp:revision>
  <dc:subject/>
  <dc:title>Content Standard 3</dc:title>
</cp:coreProperties>
</file>