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930-06C1-49CC-8D2D-D247C736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2A9E-EFDF-4623-94F9-D0B3B242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FE35-D30A-44F0-8E57-0153D77F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C0C-28A2-4BA1-A027-038881D2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6099-D9EC-457E-8B97-116E01BC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078-D4FC-4410-8BC6-4470F997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C058-5699-410B-9B8A-4003C570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A5B-F602-44BF-BD02-F5519070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075-4F63-46BC-873A-1A9AC844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80E-F33B-49E5-AEFB-6E0F02DD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F5D-7F86-461A-BC6F-044E856E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C30-6FD2-4899-8944-606306C7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EB03-B9A4-477C-AF84-DF9C7AC44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4495680"/>
            <a:ext cx="228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19420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00400" y="1447920"/>
            <a:ext cx="5518080" cy="3487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00400" y="1447920"/>
            <a:ext cx="54864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28195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FAB-6856-4C52-8D70-DC11183BD8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58672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351080"/>
            <a:ext cx="4343400" cy="386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53000" y="1752480"/>
            <a:ext cx="4491000" cy="262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5257800"/>
            <a:ext cx="43434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1752480"/>
            <a:ext cx="4495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38862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83D-0895-4A50-A80F-59F84393A5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57913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262160"/>
            <a:ext cx="4299120" cy="366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4952880"/>
            <a:ext cx="42670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53000" y="1752480"/>
            <a:ext cx="4491000" cy="297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8320" y="1752480"/>
            <a:ext cx="4495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42670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44E-C994-4655-BDDD-8264AB3C12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86064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5867280"/>
            <a:ext cx="3886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4454640" cy="320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95680" y="1600200"/>
            <a:ext cx="4419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1600200"/>
            <a:ext cx="0" cy="3124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30481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872D-6D0D-401E-82DA-796C90C38A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267440" cy="356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4496040" cy="2641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2280" y="5181480"/>
            <a:ext cx="42674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81080"/>
            <a:ext cx="4419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419112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A33-FCF3-4E02-9DDC-70686785CE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91824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5791320"/>
            <a:ext cx="3886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4527720" cy="265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43400" y="1981080"/>
            <a:ext cx="4572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388620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CC2-93F5-45D9-B799-6C8F0A4261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20228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5791320"/>
            <a:ext cx="41911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219320"/>
            <a:ext cx="0" cy="457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16280" y="2819520"/>
            <a:ext cx="4527720" cy="1412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48320" y="2819520"/>
            <a:ext cx="4495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32004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520-D668-4418-B40D-739132FA41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05900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5867280"/>
            <a:ext cx="40384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527720" cy="2781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5680" y="2209680"/>
            <a:ext cx="44960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4114800"/>
            <a:ext cx="759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346-C436-4E9D-8073-9DF186173D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1627200"/>
            <a:ext cx="4267080" cy="3686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5334120"/>
            <a:ext cx="42670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4375080" cy="2547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48320" y="2133720"/>
            <a:ext cx="43434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365760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533-7D58-455B-9E38-549B15CCA0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03:04:39Z</dcterms:created>
  <dc:creator>Joyce Waid</dc:creator>
  <dc:description/>
  <dc:language>en-US</dc:language>
  <cp:lastModifiedBy>Joyce Waid</cp:lastModifiedBy>
  <dcterms:modified xsi:type="dcterms:W3CDTF">2006-04-01T20:19:34Z</dcterms:modified>
  <cp:revision>2</cp:revision>
  <dc:subject/>
  <dc:title>Content Standard 4</dc:title>
</cp:coreProperties>
</file>