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359-DA04-4B27-AAAC-5C0EBAD0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4A8-A2C6-4231-AA4F-43F8984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393-E9AD-4E60-B206-B3FBCBF8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6EF-D624-4231-A53A-36A0EB8C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30D-3F43-49A6-8DB9-406B9AA8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201-5134-4268-B3CA-72AD4D2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DCF-5D15-4A23-A409-81F5A78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099-9440-48DD-94FC-F6F5742E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445-0BFA-4811-98A4-360C5DE9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3DB-1487-49F1-8874-3AF6795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1C1-41C7-49EF-984A-945B68E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534-2194-49EB-9CE0-9CCE151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350-D870-4CCC-998E-E97551902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4495680"/>
            <a:ext cx="228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19420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5518080" cy="3487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00400" y="1447920"/>
            <a:ext cx="5486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8195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735-C1E7-45DA-AFE2-BB9889EDB9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867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351080"/>
            <a:ext cx="434340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627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25780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38862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396-A0C1-42E9-9787-F51F80AF8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7913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29912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952880"/>
            <a:ext cx="426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53000" y="1752480"/>
            <a:ext cx="4491000" cy="297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175248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42670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A71-1844-41D0-8FCC-A938844FA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6064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54640" cy="320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95680" y="160020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600200"/>
            <a:ext cx="0" cy="3124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30481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56B-D95F-48FD-934E-CDA9B0693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96040" cy="2641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280" y="5181480"/>
            <a:ext cx="4267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981080"/>
            <a:ext cx="4419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19112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B0E-4B82-43C9-8E91-580E64315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182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57913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4527720" cy="265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1981080"/>
            <a:ext cx="4572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886200"/>
            <a:ext cx="304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3D7-E402-4503-A9A8-662C6D874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20228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791320"/>
            <a:ext cx="4191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219320"/>
            <a:ext cx="0" cy="457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16280" y="2819520"/>
            <a:ext cx="4527720" cy="141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48320" y="281952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32004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A68-F8D1-4D78-8C97-FB30F6114F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0590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5867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52772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220968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4114800"/>
            <a:ext cx="75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BB7-C1E5-4198-A4CD-BFBE5332BA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627200"/>
            <a:ext cx="4267080" cy="36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5334120"/>
            <a:ext cx="4267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375080" cy="2547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48320" y="2133720"/>
            <a:ext cx="43434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657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894-B675-4FFB-8329-283850A3C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39Z</dcterms:created>
  <dc:creator>Joyce Waid</dc:creator>
  <dc:description/>
  <dc:language>en-US</dc:language>
  <cp:lastModifiedBy>Joyce Waid</cp:lastModifiedBy>
  <dcterms:modified xsi:type="dcterms:W3CDTF">2006-04-01T20:19:34Z</dcterms:modified>
  <cp:revision>2</cp:revision>
  <dc:subject/>
  <dc:title>Content Standard 4</dc:title>
</cp:coreProperties>
</file>