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06A-D0A5-4B7F-AE6C-AC27F0C1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4A1-F447-418A-ACAE-15361B9C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05F-A70E-49EA-89F6-77A90BA7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966-8DF3-4139-A39D-8FB29691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342-52BB-49A8-9BBD-459F9D40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20C-E265-4F34-8484-C9FD5EDB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215-48F0-49F7-AE76-C832FA5E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F53-BE62-4D5F-AD47-158C1157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377-8A3F-48EB-80D4-6A760B42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40B-F75A-486A-8188-E72C0AD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A23-2617-4FBF-A5CE-B509A8EF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EEE-8AD3-4980-A538-D46B834B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13E-C00A-4119-899F-296910B3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1800" cy="444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00800" y="44956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59C-73C9-4271-B824-9D9E464924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405320" cy="517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67280" y="45720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E03-BD70-4BB9-8B73-8FA4579170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3920" y="4724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8D5-CDC5-48F7-ABC0-85F0CBCAE4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78640" cy="46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52578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E40-D1F0-430D-BA1E-F689AD1014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192320"/>
            <a:ext cx="5105520" cy="496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1BA-FEA9-4FCC-88F0-2F6228BE1A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81480" cy="468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49528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313-79A5-4F1B-891A-6BBECD961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867280" cy="502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39625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CDD-E0D8-4AC0-A9E7-406FD80E14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9840" y="1133640"/>
            <a:ext cx="4932360" cy="496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032-8DF0-4F03-AD1F-46AF29156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92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1480" y="4191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125-B463-4A6C-933E-EA0DE9D494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1339920"/>
            <a:ext cx="5105520" cy="47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510552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756-944E-49CF-AA72-39B0DC9BB2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29:47Z</dcterms:created>
  <dc:creator>Joyce Waid</dc:creator>
  <dc:description/>
  <dc:language>en-US</dc:language>
  <cp:lastModifiedBy>Joyce Waid</cp:lastModifiedBy>
  <dcterms:modified xsi:type="dcterms:W3CDTF">2006-04-01T20:30:10Z</dcterms:modified>
  <cp:revision>2</cp:revision>
  <dc:subject/>
  <dc:title>Content Standard 5</dc:title>
</cp:coreProperties>
</file>