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761-CA4D-4919-8C99-E3BED6ED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9A6-3910-4048-9372-519E8FC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2EF-EB2B-416D-9F3C-F2EE242D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DD0-CFE1-4558-920E-A058972E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0F2-61F8-4161-BD3E-8713E666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2F1-AE38-4751-AAC1-8AB4DF33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952-8F5E-419E-A7DD-ABE4AC19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18E-FBCD-4581-831A-2C7C3B54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A5E-4A35-4460-97A3-E7A0F683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463-04CE-406D-B877-3A167E2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E0C-320F-4110-BB56-E068F258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C0F-F5CD-4F0C-B7A6-E1117C6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4DEE-8D42-4523-A772-1A45D5E3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11800" cy="444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00800" y="44956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D92-F7CF-4FD6-9B08-C95FA2B4D9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405320" cy="517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867280" y="45720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346-69D4-4CC0-BD73-369176EBD9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93432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3920" y="4724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A18-2AB6-42D5-B0A0-59728A6683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78640" cy="46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57600" y="5257800"/>
            <a:ext cx="228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619-DFB0-4DA6-9073-2FCAB245D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192320"/>
            <a:ext cx="5105520" cy="496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E8F-3EF9-4AEF-9D15-EA9C884439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1380960"/>
            <a:ext cx="5181480" cy="4686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62520" y="49528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E6D-CA4B-48D8-B49A-91B03D5EC6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867280" cy="502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3962520"/>
            <a:ext cx="152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9F0-0D2F-4CD2-987F-CC22CC2F74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9840" y="1133640"/>
            <a:ext cx="4932360" cy="496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8A1-6BA6-45D4-AC79-D375A0549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92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1480" y="4191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FC5-AE06-4A32-9BF8-47DA4D2BCE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81080" y="1339920"/>
            <a:ext cx="5105520" cy="47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5105520"/>
            <a:ext cx="75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822-087C-4286-A6B2-2C87EE880C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0:29:47Z</dcterms:created>
  <dc:creator>Joyce Waid</dc:creator>
  <dc:description/>
  <dc:language>en-US</dc:language>
  <cp:lastModifiedBy>Joyce Waid</cp:lastModifiedBy>
  <dcterms:modified xsi:type="dcterms:W3CDTF">2006-04-01T20:30:10Z</dcterms:modified>
  <cp:revision>2</cp:revision>
  <dc:subject/>
  <dc:title>Content Standard 5</dc:title>
</cp:coreProperties>
</file>