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8102-9F73-4F22-9A22-03C70603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830F-353D-460C-9711-BF286FF3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9782-8310-4169-85F0-AA327A3D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CD1-FF9F-4CC0-AE8E-166C0709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C98-B8E2-4517-94FF-E877CA88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2D6-37E7-44C4-B84D-3540E042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5549-E372-4510-9E87-9D80BA21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686-44E5-481E-8A82-AB7E0A61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01B-B8B9-415D-803A-8D806789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991-E3F6-4DFA-8D46-EE987783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4302-7360-4DA2-8697-1E356202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FE22-E2EF-41B1-B58A-5AF957DE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D463-401F-4C51-B3C7-8FC361142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1417680"/>
            <a:ext cx="5791320" cy="3917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0200" y="5334120"/>
            <a:ext cx="5867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1447920"/>
            <a:ext cx="0" cy="3886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38862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041-6077-4976-929A-37E961C78B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705720" cy="5040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38480" y="51814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436-8E6B-4C77-B1EF-5DC0DB50EF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3880" y="1131840"/>
            <a:ext cx="6019920" cy="453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06F-2801-4AC3-A392-CCFC7C8FA8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4469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9880" y="457200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AEB9-08B4-44DB-9E4B-8D41BC2880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933960" cy="489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362320" y="5029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CA9-74BB-49E1-921B-755113421D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4724280"/>
            <a:ext cx="152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47920" y="1074600"/>
            <a:ext cx="6553080" cy="493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AE9C-A8EA-4259-AAB1-137A68E5FF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1258920"/>
            <a:ext cx="6629400" cy="4492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15000" y="487692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EC7-A45D-458A-9B98-9059868BA9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1144440"/>
            <a:ext cx="6629400" cy="4730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86600" y="4876920"/>
            <a:ext cx="2286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11B-B53E-464E-A09C-BB5B19F4DC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47676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668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216-548A-429A-9D84-7D36D5C5AC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1160640"/>
            <a:ext cx="6782040" cy="4692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15000" y="48006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5B2-59D1-4999-96A5-36BF49349D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52480" y="1287360"/>
            <a:ext cx="5867640" cy="4456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0" y="495288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C157-2675-472A-AC81-C7187D6FF9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95880" cy="4568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66880" y="487692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E7E-8D59-465C-96B2-18AC3C2632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1192320"/>
            <a:ext cx="6476760" cy="463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38680" y="48006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F53D-962C-40FA-AD92-FC73AE6041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1206360"/>
            <a:ext cx="6781680" cy="4710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66880" y="487692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432-6647-47BC-957D-11F54B2E37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0:40:45Z</dcterms:created>
  <dc:creator>Joyce Waid</dc:creator>
  <dc:description/>
  <dc:language>en-US</dc:language>
  <cp:lastModifiedBy>Joyce Waid</cp:lastModifiedBy>
  <dcterms:modified xsi:type="dcterms:W3CDTF">2006-04-01T20:43:51Z</dcterms:modified>
  <cp:revision>2</cp:revision>
  <dc:subject/>
  <dc:title>Content Standard 6</dc:title>
</cp:coreProperties>
</file>