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40C-E589-44A0-987D-7EA723B2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0CF-D845-455E-BCDC-DD62FB3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A94-2C52-4828-8DAC-D89B1300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E05-F3D8-4A4A-A981-9FDCD03F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6F9-124B-4D4B-A4EC-78D62F84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CC6-3246-45DA-A26E-056F0B78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6C8-407D-4E27-8292-A9F907D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6C2-2780-474F-BE87-41E50006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25C-5158-42D8-B76A-5C93C40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2A1-FD34-4D75-813D-B0F687C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797-FDD9-4A22-AD8B-9128BB69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15E-FE9D-4992-99E0-90797412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036-280C-4032-BF86-9DB8F7BA9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417680"/>
            <a:ext cx="5791320" cy="39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334120"/>
            <a:ext cx="586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1447920"/>
            <a:ext cx="0" cy="3886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8862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8CA-5C8C-45B9-B12E-93A4282332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181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120-A037-410F-83C4-8CE0599511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131840"/>
            <a:ext cx="6019920" cy="453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076-DDB9-461A-9068-C66D1DC1B4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446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5720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1BF-80DA-4E7D-8A3E-73F54A19A9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6232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EEB-3FC8-4DC4-A024-962301F148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074600"/>
            <a:ext cx="6553080" cy="49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3E6-5657-4B3B-9C3F-C525BDA3D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258920"/>
            <a:ext cx="6629400" cy="44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129-0162-4138-BFA7-11E02707CF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4440"/>
            <a:ext cx="6629400" cy="473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48769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43E-3AEB-408F-A7E6-FAC1F643A9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DBC-1246-42C2-8F94-B1C41E927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160640"/>
            <a:ext cx="6782040" cy="469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4800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C73-3C50-4B83-B615-0207E9856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287360"/>
            <a:ext cx="586764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495288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612-6887-4298-A45B-975930388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95880" cy="456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8769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4FD-1666-4B04-9B82-EDDE41108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192320"/>
            <a:ext cx="6476760" cy="463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2FB-2A91-4A3A-B531-B1215BE44E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6781680" cy="471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4B8-5934-4750-9CC5-65F149D1A2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40:45Z</dcterms:created>
  <dc:creator>Joyce Waid</dc:creator>
  <dc:description/>
  <dc:language>en-US</dc:language>
  <cp:lastModifiedBy>Joyce Waid</cp:lastModifiedBy>
  <dcterms:modified xsi:type="dcterms:W3CDTF">2006-04-01T20:43:51Z</dcterms:modified>
  <cp:revision>2</cp:revision>
  <dc:subject/>
  <dc:title>Content Standard 6</dc:title>
</cp:coreProperties>
</file>