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16.wmf" ContentType="image/x-wmf"/>
  <Override PartName="/ppt/media/image8.png" ContentType="image/png"/>
  <Override PartName="/ppt/media/image9.wmf" ContentType="image/x-wmf"/>
  <Override PartName="/ppt/media/image34.wmf" ContentType="image/x-wmf"/>
  <Override PartName="/ppt/media/image13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D6E-31D6-40E3-92AB-1C011BCB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46F-3EB1-4DA2-88CD-540EA97F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CE4-EFFF-4A2D-848E-0C39BBA4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6B5-3D54-4DBF-99D6-3FA0A9FC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B2A-A958-492B-8A1E-53EC10D5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036-1C1C-47A0-9F35-AEF95852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FDC-C1EE-4B0D-8326-BFD03BD4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27C-4DEE-4CA1-BE9E-93848457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066-F5CB-45C9-AA25-21CE5CC4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C2D-E31D-443E-A007-03C26A39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14F8-9034-49B9-889A-F41FAC2B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154-B526-42EA-910A-231A2A91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EDD5-2650-42CA-8E0F-DF8840E93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991720" cy="728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215928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05120" y="3886200"/>
            <a:ext cx="231444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219708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2241720" cy="236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72200" y="6095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CBE-7C7A-4714-BF2A-03EBE53EF6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4119480" cy="4949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6172200"/>
            <a:ext cx="41911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2786040"/>
            <a:ext cx="3918240" cy="1254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0120" y="31240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819520"/>
            <a:ext cx="39625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093-ACEE-4E5E-A678-90E3DEE396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4108320" cy="4797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586728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81480" y="2583000"/>
            <a:ext cx="3613320" cy="1471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8153280" y="25909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7D1-AC06-45AC-A31E-774CBC35A5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365720" cy="5029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087720" cy="1314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7010280" y="251460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D1E-BA05-481F-AE15-20F3822252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275000" cy="496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3735360" cy="1655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7162920" y="31240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EA6-7BF0-4E21-BEEE-DE784D2AE3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527720" cy="5192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6248520"/>
            <a:ext cx="44960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411480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76920" y="228600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23623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E65-136B-4D67-B329-B5C6C8DF5B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1219320"/>
            <a:ext cx="4003560" cy="491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6172200"/>
            <a:ext cx="39625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4527360" cy="157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19720" y="259092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29600" y="35053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6DD-8A5E-439D-A0EA-11A4C8A79C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200480" cy="4892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6172200"/>
            <a:ext cx="41907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962520" cy="2047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00600" y="213372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33526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DC3E-2C4B-4D16-9DB1-FDE5FB8DC4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444760"/>
            <a:ext cx="4070160" cy="209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4108320" cy="479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609588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438280"/>
            <a:ext cx="40384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200400"/>
            <a:ext cx="304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A1E-9DB7-482B-8E2B-BFF11859BC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054680" cy="487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601992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4527360" cy="1665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243828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153280" y="35053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D0B-C0D2-4BF1-95EF-FE50509E8C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109760" cy="4792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16280" y="2514600"/>
            <a:ext cx="4527720" cy="1511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601992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251460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4680" y="2666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22B-DDA3-421E-B066-9C9B4D8CAA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9000" y="914400"/>
            <a:ext cx="8726400" cy="746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22208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876920" y="1676520"/>
            <a:ext cx="2236680" cy="229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057400" y="3962520"/>
            <a:ext cx="21718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876920" y="4038480"/>
            <a:ext cx="221292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9920" y="61722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102-63D7-4AC8-BB22-75F5F63A58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991720" cy="1017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1940040" cy="2057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00600" y="2057400"/>
            <a:ext cx="2011320" cy="207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057400" y="4191120"/>
            <a:ext cx="1919160" cy="195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800600" y="4114800"/>
            <a:ext cx="1957320" cy="206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B12-49A7-4F98-AECA-59B68F91DA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54:21Z</dcterms:created>
  <dc:creator>Joyce Waid</dc:creator>
  <dc:description/>
  <dc:language>en-US</dc:language>
  <cp:lastModifiedBy>Joyce Waid</cp:lastModifiedBy>
  <dcterms:modified xsi:type="dcterms:W3CDTF">2006-04-01T21:15:43Z</dcterms:modified>
  <cp:revision>2</cp:revision>
  <dc:subject/>
  <dc:title>Content Standard 7</dc:title>
</cp:coreProperties>
</file>