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0.png" ContentType="image/png"/>
  <Override PartName="/ppt/media/image18.wmf" ContentType="image/x-wmf"/>
  <Override PartName="/ppt/media/image29.wmf" ContentType="image/x-wmf"/>
  <Override PartName="/ppt/media/image6.wmf" ContentType="image/x-wmf"/>
  <Override PartName="/ppt/media/image15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16.wmf" ContentType="image/x-wmf"/>
  <Override PartName="/ppt/media/image8.png" ContentType="image/png"/>
  <Override PartName="/ppt/media/image9.wmf" ContentType="image/x-wmf"/>
  <Override PartName="/ppt/media/image34.wmf" ContentType="image/x-wmf"/>
  <Override PartName="/ppt/media/image13.wmf" ContentType="image/x-wmf"/>
  <Override PartName="/ppt/media/image10.wmf" ContentType="image/x-wmf"/>
  <Override PartName="/ppt/media/image35.wmf" ContentType="image/x-wmf"/>
  <Override PartName="/ppt/media/image5.wmf" ContentType="image/x-wmf"/>
  <Override PartName="/ppt/media/image28.wmf" ContentType="image/x-wmf"/>
  <Override PartName="/ppt/media/image4.png" ContentType="image/png"/>
  <Override PartName="/ppt/media/image30.wmf" ContentType="image/x-wmf"/>
  <Override PartName="/ppt/media/image27.png" ContentType="image/png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7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5F0A-F4EA-4E7D-8E5E-40E8AB10E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4F9A-620C-4E27-B8E9-B2407E81C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4CB2-F925-495E-9541-D79D043E6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6749-A88D-4E96-BA75-E5E03D6D0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79D7-C48C-4F26-A9F2-F0B60A271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F50F-8F32-4EDD-AE88-C30049D3E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D4EB-D3AE-4526-B950-FB75A9444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EB92-0C6C-484F-9C72-F930E9038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85EC-A7EA-4458-847C-97C814296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493C-5CDA-4CF5-850D-869C3B7F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2DF9-13E3-4399-A5BE-FDB863DD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31CF-C209-431E-9299-65D399CF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D0828-AA72-4F97-8EFF-AFD6902A9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8991720" cy="728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981080" y="1523880"/>
            <a:ext cx="2159280" cy="2286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905120" y="3886200"/>
            <a:ext cx="2314440" cy="2438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4952880" y="1523880"/>
            <a:ext cx="2197080" cy="2362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4952880" y="3886200"/>
            <a:ext cx="2241720" cy="23623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172200" y="6095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17AD-97E4-463B-8A0C-823B49ADDDD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4119480" cy="4949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57200" y="6172200"/>
            <a:ext cx="419112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724280" y="2786040"/>
            <a:ext cx="3918240" cy="12542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620120" y="3124080"/>
            <a:ext cx="228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2819520"/>
            <a:ext cx="396252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0B96-1318-4B81-A108-383C493B126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4108320" cy="47977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762120" y="5867280"/>
            <a:ext cx="41148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181480" y="2583000"/>
            <a:ext cx="3613320" cy="147132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8153280" y="2590920"/>
            <a:ext cx="76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DB55-AFBC-4018-AECE-2C43AE174A5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4365720" cy="50292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181480" y="2362320"/>
            <a:ext cx="3087720" cy="13143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7010280" y="2514600"/>
            <a:ext cx="1526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1E51-C8AF-49F1-AC0D-00591519538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4275000" cy="4967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029200" y="2514600"/>
            <a:ext cx="3735360" cy="16556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116" name=""/>
          <p:cNvSpPr/>
          <p:nvPr/>
        </p:nvSpPr>
        <p:spPr>
          <a:xfrm>
            <a:off x="7162920" y="3124080"/>
            <a:ext cx="1522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FD94-20A3-4B61-BACF-16F38AF65E6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4527720" cy="5192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80880" y="6248520"/>
            <a:ext cx="449604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876920" y="2286000"/>
            <a:ext cx="4114800" cy="1600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876920" y="2286000"/>
            <a:ext cx="41148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534520" y="2362320"/>
            <a:ext cx="1522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A7BF-DED3-420F-B5AC-A9F21D0818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457200" y="1219320"/>
            <a:ext cx="4003560" cy="49100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57200" y="6172200"/>
            <a:ext cx="396252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419720" y="2590920"/>
            <a:ext cx="4527360" cy="1574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419720" y="2590920"/>
            <a:ext cx="44956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229600" y="3505320"/>
            <a:ext cx="76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CB0D-48EE-4BA5-BC36-3EB33DA0699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4200480" cy="4892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33520" y="6172200"/>
            <a:ext cx="419076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800600" y="2133720"/>
            <a:ext cx="3962520" cy="20476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800600" y="2133720"/>
            <a:ext cx="38862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010280" y="3352680"/>
            <a:ext cx="76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EF6F-214E-4CB5-A562-464C124E7FE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648320" y="2444760"/>
            <a:ext cx="4070160" cy="2097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57200" y="1295280"/>
            <a:ext cx="4108320" cy="4797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57200" y="6095880"/>
            <a:ext cx="41148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48320" y="2438280"/>
            <a:ext cx="40384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9920" y="3200400"/>
            <a:ext cx="3045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F388-0988-4D53-84F6-E5FD2775C5E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4054680" cy="4878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80880" y="6019920"/>
            <a:ext cx="41148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419720" y="2438280"/>
            <a:ext cx="4527360" cy="1665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419720" y="2438280"/>
            <a:ext cx="449568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153280" y="3505320"/>
            <a:ext cx="228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944F-4BCA-4715-80C2-5FEBEE29DB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4109760" cy="47926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616280" y="2514600"/>
            <a:ext cx="4527720" cy="15112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04920" y="6019920"/>
            <a:ext cx="41148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8320" y="2514600"/>
            <a:ext cx="44956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924680" y="26668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B1A3-97E0-4EA2-8A9D-990457037AA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89000" y="914400"/>
            <a:ext cx="8726400" cy="746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057400" y="1676520"/>
            <a:ext cx="2220840" cy="2286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876920" y="1676520"/>
            <a:ext cx="2236680" cy="2293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2057400" y="3962520"/>
            <a:ext cx="2171880" cy="2286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4876920" y="4038480"/>
            <a:ext cx="2212920" cy="2286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019920" y="617220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417C-838E-4956-BCF9-B61BB1946A5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52280" y="914400"/>
            <a:ext cx="8991720" cy="1017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981080" y="2057400"/>
            <a:ext cx="1940040" cy="20574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800600" y="2057400"/>
            <a:ext cx="2011320" cy="20750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2057400" y="4191120"/>
            <a:ext cx="1919160" cy="1954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4800600" y="4114800"/>
            <a:ext cx="1957320" cy="2060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F859-4CC3-47B9-A582-36C41D10BC9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1T20:54:21Z</dcterms:created>
  <dc:creator>Joyce Waid</dc:creator>
  <dc:description/>
  <dc:language>en-US</dc:language>
  <cp:lastModifiedBy>Joyce Waid</cp:lastModifiedBy>
  <dcterms:modified xsi:type="dcterms:W3CDTF">2006-04-01T21:15:43Z</dcterms:modified>
  <cp:revision>2</cp:revision>
  <dc:subject/>
  <dc:title>Content Standard 7</dc:title>
</cp:coreProperties>
</file>