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581-9C4A-4BFF-BA95-61D2E990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405-BFDD-4B4F-B98E-34B0102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079-E3D4-4060-B2E4-4874F54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E5E-1AB0-4EE5-9C04-76B8D098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1E5-D04D-4FD0-A3BE-D13E364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CF5-7956-4DA0-ACE5-0832D016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474-B1BA-4B57-8D80-2C0D86C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855-7314-4D7A-9EBC-A86FDDB0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0BA-D2D5-40BE-A364-4EDFA021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501-B46C-47BC-861A-5C8E3CF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D2E-5838-4FC0-BFD9-35BFCC4B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A55-20DF-4B2B-8457-3CFF00CB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A441-1A82-4679-AA8F-460D7664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333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3915000" cy="161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24480" y="44956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C70-84B6-477A-9B53-D6AC2DAD02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7086600" cy="4275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1280" y="4724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12A-3DF4-48C2-A325-0B85E84E55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16736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75000" cy="24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7724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A9B-446A-423F-9825-7BA47A839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4238640" cy="290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1668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01000" y="3200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DAF-34CD-4C8D-A20C-A2D614D3B2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275000" cy="330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2552760"/>
            <a:ext cx="4191120" cy="157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381880" y="3733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40F-FEB1-4297-8D1C-0040706E53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7636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C5D-865F-416E-BFC6-B26265E239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063000" cy="4778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8847000" cy="55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54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DD8-C947-4991-8659-3297749EB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8400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1A8-47D5-4D59-AD63-453B60B92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74320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748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8400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A75-BE49-465E-B045-F9B8CD2060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426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86200" y="4648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60B-7703-46B8-BC63-BC6DB2337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419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81680" y="4495680"/>
            <a:ext cx="609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027-474C-4329-8FA2-8C05EC9DB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67000" cy="370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9000" y="2362320"/>
            <a:ext cx="4275000" cy="248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077320" y="388620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C1E-305F-4AD3-8290-233095EE8B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1271520"/>
            <a:ext cx="5029200" cy="459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94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8F5-9326-46EC-BE88-E8044F096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1217520"/>
            <a:ext cx="5867280" cy="472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54864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02D-EBE7-40E2-8FF8-ECED03E6A4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1263600"/>
            <a:ext cx="59436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15200" y="3200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98D-085C-4B02-8C9B-8AEF95497B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311720" cy="426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4267080" cy="137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B82-11CD-4C43-A0E9-8D97328C1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275000" cy="32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404784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610480" y="31240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E12-5FD9-4D42-88D1-8382E5E44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1:16:23Z</dcterms:created>
  <dc:creator>Joyce Waid</dc:creator>
  <dc:description/>
  <dc:language>en-US</dc:language>
  <cp:lastModifiedBy>Joyce Waid</cp:lastModifiedBy>
  <dcterms:modified xsi:type="dcterms:W3CDTF">2006-04-01T23:35:38Z</dcterms:modified>
  <cp:revision>3</cp:revision>
  <dc:subject/>
  <dc:title>Content Standard 8</dc:title>
</cp:coreProperties>
</file>