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7FB-3450-4722-A967-3012C979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1C1-BFEE-4F99-993F-03C74ED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FE2-765F-47E9-889B-CF323467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D66-F09A-4F81-A0B4-6014D5E7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DCE-3C12-4306-A06D-61A4DB28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46C-1754-409E-AF2A-C18F6E96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9FF-7467-4A0D-82C7-D7408AE0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243-3DF4-4807-9E42-2922B99C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AA9-CC12-4F40-A8BE-4719EA9E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74A-AAB7-4E79-8CCE-D8598585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F97-22DC-4D1C-B371-E39A74F4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3A0-1830-4E74-B8A5-641380B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A978-FA31-4B2F-B82C-16B05CFCD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333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915000" cy="161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44956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502-05D1-4952-981E-36C0498FBC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7086600" cy="427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4724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B9A-ACAE-4E00-9989-C6FB14A0E5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6736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75000" cy="24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8C8-1C31-4D71-BF15-95F9343CA5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238640" cy="290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16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B56-0AD1-4301-B6D8-4E6330F7CA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275000" cy="33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2552760"/>
            <a:ext cx="4191120" cy="157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1880" y="37339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924-412D-4873-94C3-51448A7F1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7636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FE7-6D8A-43FF-BA84-D0091AAA3A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063000" cy="477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8847000" cy="55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554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779-6844-4DD9-8681-20903F760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840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5F4-1AE3-4AD2-AF31-19267D14A0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748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8400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0A6-E70A-4C9D-BD1D-461216D522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426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64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EA2-516A-4DD8-89D0-290760EE5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449568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6C0-10F2-4B41-ABFB-F64C2DA4B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67000" cy="37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9000" y="2362320"/>
            <a:ext cx="427500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77320" y="38862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2DF-ADEA-4B3F-AED6-9AAAFEC5D6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271520"/>
            <a:ext cx="5029200" cy="459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768-1B4F-47E3-B464-13930D816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17520"/>
            <a:ext cx="5867280" cy="472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54864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693-230D-4E49-AF14-A8BF9B3D4C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263600"/>
            <a:ext cx="59436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15200" y="3200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A70-203A-4B15-9E33-456AA0374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11720" cy="426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426708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8B7-A472-4CE8-9FED-E90694A00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75000" cy="32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4784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610480" y="31240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BE1-FD15-49F7-B8DA-D91969F5F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1:16:23Z</dcterms:created>
  <dc:creator>Joyce Waid</dc:creator>
  <dc:description/>
  <dc:language>en-US</dc:language>
  <cp:lastModifiedBy>Joyce Waid</cp:lastModifiedBy>
  <dcterms:modified xsi:type="dcterms:W3CDTF">2006-04-01T23:35:38Z</dcterms:modified>
  <cp:revision>3</cp:revision>
  <dc:subject/>
  <dc:title>Content Standard 8</dc:title>
</cp:coreProperties>
</file>