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A6C8-FECA-4D42-BBE3-5A5E3AE8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4C21-DC55-4406-8FE5-8EAAF602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68B-A548-4DBB-B50B-EF932AAF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92E0-086E-4107-8B84-BEAF08AF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7072-BCD0-4732-8699-778ECBEC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8EC8-D7AC-4AE1-BE3A-F5FFE8E6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266A-901F-486D-8FD8-4BD5299E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6465-9DA5-4AE7-AE18-46D21018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F11F-412A-48D1-8DE4-B472DFD1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0D7A-B4D4-412A-A1E7-DD759FE3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357-D73F-47FE-8E6F-341919DA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870F-6CAD-4734-9479-CC5DFF31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74E1-1C6E-4155-A234-423EF0DF4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1336680"/>
            <a:ext cx="4724640" cy="4184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44956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40ED-F0EE-431C-9C2B-CA7559346D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985920" cy="361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275000" cy="13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0C17-827E-47A0-92A5-33FF60C80F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1339920"/>
            <a:ext cx="6858000" cy="4373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150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033-0622-4691-A729-F4307B7D6C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4361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29000" y="449568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0D48-7EFD-4B5E-AD11-E0B9603A04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1311120"/>
            <a:ext cx="7238880" cy="4470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71800" y="365760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627F-DA5A-4824-94D1-5323175AFB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90960" cy="364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00400" y="41148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18C-D0AF-4CC0-945F-1CB2A05A96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80988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4724640" cy="260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15000" y="36576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8BF1-BEC6-47E2-A108-4F314F9B42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369120" cy="3003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15AB-EFE5-4F20-8109-21E460F409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8077320" cy="3027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D0C-1128-4DCB-BE4B-A6DE6D3C84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4130640" cy="3014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24480" y="2057400"/>
            <a:ext cx="4619520" cy="155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239-3B7F-4A9C-9FAE-D580A17788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2:15:00Z</dcterms:created>
  <dc:creator>Joyce Waid</dc:creator>
  <dc:description/>
  <dc:language>en-US</dc:language>
  <cp:lastModifiedBy>Joyce Waid</cp:lastModifiedBy>
  <dcterms:modified xsi:type="dcterms:W3CDTF">2006-04-01T22:15:05Z</dcterms:modified>
  <cp:revision>1</cp:revision>
  <dc:subject/>
  <dc:title>Content Standard 9</dc:title>
</cp:coreProperties>
</file>