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675-2BAF-4814-A6F9-5E7A71F6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6EF-A726-453C-9724-7C99C31B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46C-E707-421D-99A0-ADD59C93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B6E-C50D-403C-A4A8-3BB8DA30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8AA-C30B-4DFF-99C6-0DA9C64C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8D1-324F-4EA4-9F90-ED76F9A9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D49-CBFE-4679-98A0-BC5C9EA1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500-BE1E-426D-87A7-814B6439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0DE-F776-4448-8A6A-FDA18486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D32-97CB-432B-B778-D3C725EE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715-4473-40FE-AE07-E083EDD3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1AC-BB3A-4BE7-96AC-16F0330F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BED0-7736-4B01-BE6A-CC2A420C3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1336680"/>
            <a:ext cx="4724640" cy="4184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44956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0AC-2682-462D-9462-A8E5859A95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985920" cy="361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275000" cy="13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5CB-446F-47BC-AA92-A27207AA08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339920"/>
            <a:ext cx="6858000" cy="437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E14-44A5-46DC-ABF9-8BA13FED4B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436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449568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8B3-4354-4EEF-9D64-B67F931B9D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311120"/>
            <a:ext cx="7238880" cy="4470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365760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F28-6074-4C8E-872B-502A8F3C7A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90960" cy="364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4114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CEF-A2BA-4130-B1E6-D701030DA8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80988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724640" cy="26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15000" y="36576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41A-F24B-44A8-8897-021C83F08C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369120" cy="3003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C57-465F-4960-8D77-A801BAEC0C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077320" cy="302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492-E222-4683-AA8E-A52CAE215C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130640" cy="301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24480" y="2057400"/>
            <a:ext cx="4619520" cy="155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F0F-6A7D-4070-BD84-89F2114465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15:00Z</dcterms:created>
  <dc:creator>Joyce Waid</dc:creator>
  <dc:description/>
  <dc:language>en-US</dc:language>
  <cp:lastModifiedBy>Joyce Waid</cp:lastModifiedBy>
  <dcterms:modified xsi:type="dcterms:W3CDTF">2006-04-01T22:15:05Z</dcterms:modified>
  <cp:revision>1</cp:revision>
  <dc:subject/>
  <dc:title>Content Standard 9</dc:title>
</cp:coreProperties>
</file>