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6BF7-9312-4E27-8657-D9924DC8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3FBE-9ACB-4027-9A0E-ED9F6CEB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1065-4F7F-4FB4-9439-9FF301E4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D680-DE94-4793-97B7-EEDF9F8A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ABF3-8E31-4858-A92E-3E056CE6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DD3B-10C0-4393-A703-9F332A5E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10A1-D222-4B28-A172-FD411175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7FA-984C-4215-BE29-FB80C784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624C-80DD-4628-91CD-2467DACE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56D3-DDD9-4EA9-9A9C-D193708E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093C-ABF5-4C6A-9D33-B9B81119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B0DE-9E54-4394-85BF-8D542018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C1D4-B2A0-4FD4-A9AE-64557900B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772400" cy="3154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05120" y="3809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8464-DFF0-419C-A6CC-EFA361C78E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453160" cy="2435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2837-98B5-41A4-9BF5-CB6F4AFFB3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882800"/>
            <a:ext cx="8305920" cy="399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0120" y="4343400"/>
            <a:ext cx="228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F934-C423-4C1F-B085-47E47403B4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728720"/>
            <a:ext cx="7924680" cy="4111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95480" y="449568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6610-BC2D-4CC5-A23C-BADF56A7AF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767360" cy="2284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E2A6-695F-47A3-A0CA-6076F6CD1F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7924680" cy="2301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78CC-59D6-4976-B22C-BF32BE82C6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835680" cy="1874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43000" y="3886200"/>
            <a:ext cx="67816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49BB-87F9-4AA4-A56E-8517E95336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8112240" cy="2340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0B42-4914-465B-B2B8-227E050DD0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25040" cy="2362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578C-8B25-44A8-BBFE-101303B9BC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229600" cy="2420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C843-C35C-4150-B879-07F7D46984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6:52:49Z</dcterms:created>
  <dc:creator>Joyce Waid</dc:creator>
  <dc:description/>
  <dc:language>en-US</dc:language>
  <cp:lastModifiedBy>Joyce Waid</cp:lastModifiedBy>
  <dcterms:modified xsi:type="dcterms:W3CDTF">2006-04-01T23:31:23Z</dcterms:modified>
  <cp:revision>5</cp:revision>
  <dc:subject/>
  <dc:title>Content Standard 1</dc:title>
</cp:coreProperties>
</file>