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895-9BAF-4A58-A457-BEE12278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369-6FCA-46B2-8220-8E000B2D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364-D604-46E2-8A75-47524A25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874-5D62-454C-A56B-45B2844C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857-CED0-4571-AECB-B324EB06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711-A7AF-409F-984C-1E94B704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33C-EA2E-4BAD-9019-29057FAB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AE1-2CA1-42E8-A8C4-AAF5CB41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43D-C513-4B91-9B5D-2DCAB3C8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34E-3E61-4DB0-860C-1E289E45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3A0-D1F6-4B00-9269-4BB743D3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1D4-3E36-4BC0-96CF-9DD6D8E2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6624-F85D-44B0-A303-7069E6A15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315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EBF-E6D6-4867-8CE6-A8AAE10330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53160" cy="2435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4D2-EB99-439C-915C-7D54F8DE5A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305920" cy="399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0120" y="43434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F04-B698-4239-B37D-CA7365742C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728720"/>
            <a:ext cx="7924680" cy="4111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95480" y="44956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387-FE8C-4BE1-9390-41EEEB6A0A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767360" cy="228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DE1-1C9F-4029-AAD2-0EC73F3B26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7924680" cy="2301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372-CFE3-40AA-9941-A7711330DA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835680" cy="187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3886200"/>
            <a:ext cx="6781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CEB-35A9-447A-8B71-87F2A0FD33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112240" cy="234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FFA-0DFD-4871-B560-A844D0FB77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8BB-AD25-441B-BE3F-4443B97EB0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242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738-EA64-4733-8AA0-C1BDA3C53D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6:52:49Z</dcterms:created>
  <dc:creator>Joyce Waid</dc:creator>
  <dc:description/>
  <dc:language>en-US</dc:language>
  <cp:lastModifiedBy>Joyce Waid</cp:lastModifiedBy>
  <dcterms:modified xsi:type="dcterms:W3CDTF">2006-04-01T23:31:23Z</dcterms:modified>
  <cp:revision>5</cp:revision>
  <dc:subject/>
  <dc:title>Content Standard 1</dc:title>
</cp:coreProperties>
</file>