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A508-9500-4597-AEAC-A61EAEFFE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C0D4-61EA-4B52-A4B8-7922D232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79AB-D8A4-450F-B2A7-A3F59DE51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847F-B3E5-48F2-8B0A-DAA0287FB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D5C0-5452-4A48-8551-22E5DE85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54C7-85EF-4C35-8CCD-66EB9955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DF37-0092-4562-BF89-0F635DDB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F6F4-0428-43AD-AF8B-6311FF91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82F9-F7C0-40A3-A95A-379AAFEC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08AC-CA7E-4D31-9C73-FAE239AE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0FBF-2EAE-4362-BDBD-085EBA31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FBA5-DEA0-443B-85E7-99FF3B5B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4509-5C16-4F88-800E-EA19B8195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311360" cy="3203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133720" y="4952880"/>
            <a:ext cx="5181480" cy="1063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43200" y="55627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D274-F056-406A-92DE-EA25A35451C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81080" y="1322280"/>
            <a:ext cx="5029200" cy="4932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334120" y="58672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B9DA-2DD0-4163-A749-031F249C19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09680" y="18241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23244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7786-E161-4E8B-BE98-C327D28714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791320" cy="4351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23244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EF5B-748F-46DD-A685-21C6F62346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696440" cy="4213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828800" y="52578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7A13-A367-43D2-BFE5-548DF0D465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5410080" cy="5229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629400" y="5867280"/>
            <a:ext cx="228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9618-6618-48CD-857D-77F1841C92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5410080" cy="4591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114800" y="53341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E3F0-B046-4222-B493-1B3DAF642C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4311720" cy="4338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343400" y="3124080"/>
            <a:ext cx="4343400" cy="878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43600" y="3581280"/>
            <a:ext cx="152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A094-A925-4109-8A1D-AEFE2C09BD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5029200" cy="4010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267080" y="3200400"/>
            <a:ext cx="4649760" cy="906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315200" y="36576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4582-8A2A-4E96-936B-BCA9D643E5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4311720" cy="4203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962520" y="3200400"/>
            <a:ext cx="5029200" cy="961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791320" y="37339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1BDE-2FC5-4F5E-BF6C-9DEE8B7918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4343400" cy="3514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869000" y="1828800"/>
            <a:ext cx="4275000" cy="2690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172200" y="419112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7B94-18D9-4C92-96A5-7DC16CE42A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4798800" cy="5029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038480" y="594360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4105-7FBB-41A8-9573-459AEA443C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22:25:16Z</dcterms:created>
  <dc:creator>Joyce Waid</dc:creator>
  <dc:description/>
  <dc:language>en-US</dc:language>
  <cp:lastModifiedBy>Joyce Waid</cp:lastModifiedBy>
  <dcterms:modified xsi:type="dcterms:W3CDTF">2006-04-01T22:26:15Z</dcterms:modified>
  <cp:revision>2</cp:revision>
  <dc:subject/>
  <dc:title>Content Standard 10</dc:title>
</cp:coreProperties>
</file>