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30A-59DC-4CA2-922B-40544FBD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2B2-20C0-47A6-B3EB-AE282165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CFB-45CB-45C9-A6D0-3516EA12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21C-08BD-4029-851E-8079829B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C5E-1B46-4F7F-A639-7ADAAD1D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5D0-6FC7-4E7B-B0F7-DC0EB703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4BB-FAAC-4459-9D2A-3D9C99F1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485-2A6B-4196-B23E-0F3F1B05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13A-9D23-42D7-A2C6-42753B2D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4D5-713F-4BC5-A277-F133273E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E8D-CE38-4A18-82AC-662E8DB7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7B6-14FE-493F-8789-F3E0966A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AEF6-801F-4B4E-80C4-90402CA72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311360" cy="320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33720" y="4952880"/>
            <a:ext cx="5181480" cy="1063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C62-7D0C-4DB2-9E98-F96658FB85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1322280"/>
            <a:ext cx="5029200" cy="4932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412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538-F805-463D-B543-B8E85D261B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09680" y="18241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3244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FFE-5B78-4694-B8B8-F89263DDC6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791320" cy="4351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3244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9AA-39C9-425D-9F52-A2F98CE0CE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696440" cy="421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5257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9F9-B2E8-4862-A9A4-AD35C94261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522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29400" y="58672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D04-FB11-4184-857E-77D80D4ED2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459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14800" y="5334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783-FD7A-4DEE-85E4-EFA9BE9A14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311720" cy="43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4343400" cy="878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43600" y="35812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355-635C-4543-843A-5C72B76660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5029200" cy="401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649760" cy="906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1520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941-869C-4AB0-9E6E-2585DCA5D5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4311720" cy="420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5029200" cy="961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91320" y="3733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772-123E-4781-B3C6-588FC112FA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343400" cy="3514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69000" y="1828800"/>
            <a:ext cx="4275000" cy="2690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A01-F10A-4AFC-BEC6-647CFA8644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79880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3848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1F8-0022-48E3-96CA-DF43C2E59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25:16Z</dcterms:created>
  <dc:creator>Joyce Waid</dc:creator>
  <dc:description/>
  <dc:language>en-US</dc:language>
  <cp:lastModifiedBy>Joyce Waid</cp:lastModifiedBy>
  <dcterms:modified xsi:type="dcterms:W3CDTF">2006-04-01T22:26:15Z</dcterms:modified>
  <cp:revision>2</cp:revision>
  <dc:subject/>
  <dc:title>Content Standard 10</dc:title>
</cp:coreProperties>
</file>