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AB5-4192-41A8-8460-E3B251C2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BFB-3CCF-485F-AD2F-1891E5FA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6BB-D8BB-4813-AADD-78D0117C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7D0-B92F-461C-A5D0-CB977DF5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295-1102-4AFC-83B2-1931724E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814-FCB9-466D-A59B-560F1314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59E-349B-48A3-B928-A7F5609C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3D1-8971-45CC-9617-5A443F19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510-DB6F-473B-B57F-B4D6FFE3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299-D79B-49F4-8122-5DC00A3F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D2B-09B5-4153-9D8D-0D86651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EA2-3DFE-40BF-9995-1D89B3FC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3512-7CA9-4F05-808E-404F6A84B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311360" cy="32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4952880"/>
            <a:ext cx="5181480" cy="106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68C-A36F-4338-B1BE-EAF37DE5D1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1322280"/>
            <a:ext cx="5029200" cy="493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C32-7730-4CB7-86D4-9B2F4D5711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8241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F27-3FD1-4769-8BD5-B462E586A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76E-FC39-434C-AE30-E19A2C2983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96440" cy="421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257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E28-5E52-4C65-AFC9-8AA230EE7A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52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9400" y="58672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D1B-4460-41FA-B90F-0C57B3ABB8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459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5334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83B-647D-4AF2-A89D-77BC825FE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311720" cy="43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343400" cy="8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43600" y="35812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849-0934-435E-9BB5-23B14DBE67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5029200" cy="40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649760" cy="90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1520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4FA-7A07-42DE-B616-4C9C6CFFBB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311720" cy="420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5029200" cy="961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91320" y="373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2CD-EC3F-4992-ACCC-F2D5253B5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343400" cy="351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69000" y="1828800"/>
            <a:ext cx="4275000" cy="269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3A0-C54F-496E-8E68-830CE2DA0D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9880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ADB-6BDC-4A81-A58B-6A867F7332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5:16Z</dcterms:created>
  <dc:creator>Joyce Waid</dc:creator>
  <dc:description/>
  <dc:language>en-US</dc:language>
  <cp:lastModifiedBy>Joyce Waid</cp:lastModifiedBy>
  <dcterms:modified xsi:type="dcterms:W3CDTF">2006-04-01T22:26:15Z</dcterms:modified>
  <cp:revision>2</cp:revision>
  <dc:subject/>
  <dc:title>Content Standard 10</dc:title>
</cp:coreProperties>
</file>