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8C62-7356-4070-99EA-5A1838EBC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47FE-185A-4B29-9682-904690B6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6F98-A9C4-4B5B-A7D0-245EFA252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665B-04F5-46D8-A6D7-AFE8AFE84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4C95-7517-4B7E-8A64-A3FB3711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7E6D-EC11-4F9A-8BB2-3B42FAA3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A68D-0D16-4E84-982F-BBED5672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B6F1-141A-41F2-A833-21D6965D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96EC-90FA-40B5-9BBF-C7EF217A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250D-FD46-4DF8-86A1-FAE4294D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9BA1-52EA-46AC-A9F8-41079482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FDDA-903D-4B02-8EEC-5F60AE11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5E87-3A43-4106-82BC-5CE52A702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867280" cy="4470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58000" y="5410080"/>
            <a:ext cx="152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7120-F409-40C6-B5D7-F906303F236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991720" cy="3887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429000" y="1219320"/>
            <a:ext cx="20448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122D-504C-4D98-99F9-CDF74FC667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89000" y="1981080"/>
            <a:ext cx="8955000" cy="3726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429000" y="1219320"/>
            <a:ext cx="20448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E8D8-B248-4713-A46C-AA363E5618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553080" cy="4883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14600" y="5562720"/>
            <a:ext cx="228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4B0F-7862-4D20-9739-49E1E457E6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248520" cy="4419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562720" y="533412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4D86-FFEC-4E92-ABF6-962181AE3C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933960" cy="443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362320" y="53341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FC85-7E52-4288-BE67-02C362A9D5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6934320" cy="4181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162920" y="4800600"/>
            <a:ext cx="228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E448-806A-4B2D-BE43-32A68C0010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000" y="1219320"/>
            <a:ext cx="9063000" cy="5040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505320" y="59436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4305-551C-445D-BAD2-4F8A092063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5360" y="1828800"/>
            <a:ext cx="8918640" cy="3933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536280" y="114300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146A-09CB-416F-9C9F-DF0E6C47E2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60320" y="129528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955000" cy="449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676F-F4C5-4BD7-B5C5-2A285CF8DE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60320" y="76212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867640" cy="523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ACFB-0623-406C-BD14-958C9BCAB8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2:27:00Z</dcterms:created>
  <dc:creator>Joyce Waid</dc:creator>
  <dc:description/>
  <dc:language>en-US</dc:language>
  <cp:lastModifiedBy>Joyce Waid</cp:lastModifiedBy>
  <dcterms:modified xsi:type="dcterms:W3CDTF">2006-04-01T22:50:11Z</dcterms:modified>
  <cp:revision>2</cp:revision>
  <dc:subject/>
  <dc:title>Content Standard 11</dc:title>
</cp:coreProperties>
</file>