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6F7D-6C4E-4A82-B97B-B3DB0F61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3262-1956-449C-BD71-56381F48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5500-FC98-4E46-9ACB-A0CA00DB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CCB2-4F0B-4434-A07A-AB18EECCA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D9AF-088A-400E-9F09-3E8FD14B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E57F-9B6D-4B95-97EF-D341F5BC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8585-57F8-4C99-B906-81AF8878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DA2B-7FAE-49ED-8E11-E508D9B6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44BD-8583-424A-A410-2EFDC428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FDF9-699B-40E1-B32B-BFF3A11A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7BFE-C1C7-4655-B2D4-EDFDB0BD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8BF0-8992-4071-A2F5-F2CA585B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5DE6-B233-4851-9C7D-E6D476B61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867280" cy="4470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0" y="5410080"/>
            <a:ext cx="152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FF3A-4FA9-40DE-AD9F-8BFFAC36E1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991720" cy="3887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429000" y="1219320"/>
            <a:ext cx="20448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F866-4408-4E81-93A4-B44AAECE4C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89000" y="1981080"/>
            <a:ext cx="8955000" cy="3726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429000" y="1219320"/>
            <a:ext cx="20448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30BC-A1FD-43AF-B997-F165926D99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553080" cy="4883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14600" y="5562720"/>
            <a:ext cx="228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B078-17B4-49CF-9B50-9437F0BE99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248520" cy="4419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562720" y="533412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7338-4779-41F6-B392-CF3595AC36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933960" cy="443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362320" y="53341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B23A-8275-49E3-A89F-5E5E3D375B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6934320" cy="4181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162920" y="4800600"/>
            <a:ext cx="228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9C9C-B106-413B-9B13-158127391F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000" y="1219320"/>
            <a:ext cx="9063000" cy="5040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505320" y="59436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8475-0C04-4EA5-820E-291AC2F566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5360" y="1828800"/>
            <a:ext cx="8918640" cy="3933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536280" y="114300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CB47-A036-4100-B6B9-E2AAEDB56B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60320" y="129528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955000" cy="449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049A-20F7-4DB6-9354-EE5C76BA6A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60320" y="76212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867640" cy="523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4451-A324-4192-8DFB-FF97B9D71C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2:27:00Z</dcterms:created>
  <dc:creator>Joyce Waid</dc:creator>
  <dc:description/>
  <dc:language>en-US</dc:language>
  <cp:lastModifiedBy>Joyce Waid</cp:lastModifiedBy>
  <dcterms:modified xsi:type="dcterms:W3CDTF">2006-04-01T22:50:11Z</dcterms:modified>
  <cp:revision>2</cp:revision>
  <dc:subject/>
  <dc:title>Content Standard 11</dc:title>
</cp:coreProperties>
</file>