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46D-35C1-4A49-AE93-77A2A224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5F5-ECDF-4983-92B3-03D0EC74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DDA-33D6-474E-A0FB-78962F0F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9AD-DAED-4486-AE15-3CC5BAAB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11B-A8DD-497D-A75A-9287933F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D7A-64D8-45E8-A465-2BA10578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860-2547-45E9-95E3-BFEA2DC5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7A0-F467-47FD-B4CB-1F18B766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A67-3A75-49F1-98B8-F1EFAACB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F96-10CF-4F29-B874-9209CA90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440-E814-43D2-AB03-7914772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57D-4374-4141-87BC-F0BC789F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CE3A-DC9C-48DF-ABD6-119F38612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867280" cy="4470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0" y="5410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0BE-0CCA-498F-92C9-E328BFF861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991720" cy="3887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B03-41A7-4CCF-890A-90EE827127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9000" y="1981080"/>
            <a:ext cx="8955000" cy="372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CD5-1366-4DAA-851F-0AC1BD339C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488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55627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0FC-DF51-440B-9988-C28304FE39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53341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736-02B0-4E5C-8763-367CB113E5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443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62320" y="53341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EFE-7CFE-41C5-B577-40BFE82B51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3432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2920" y="48006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747-5315-42CE-AA9C-72A5125D5B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000" y="1219320"/>
            <a:ext cx="906300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05320" y="5943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B90-3D9B-40D5-937C-58F10F950F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5360" y="1828800"/>
            <a:ext cx="8918640" cy="393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36280" y="114300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B9B-0287-4033-946E-A2CD016430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60320" y="12952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5500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D07-A787-4EF7-ABA2-39DA6A428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6032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867640" cy="523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8FC-094A-42A4-BA84-009C7C9A7C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7:00Z</dcterms:created>
  <dc:creator>Joyce Waid</dc:creator>
  <dc:description/>
  <dc:language>en-US</dc:language>
  <cp:lastModifiedBy>Joyce Waid</cp:lastModifiedBy>
  <dcterms:modified xsi:type="dcterms:W3CDTF">2006-04-01T22:50:11Z</dcterms:modified>
  <cp:revision>2</cp:revision>
  <dc:subject/>
  <dc:title>Content Standard 11</dc:title>
</cp:coreProperties>
</file>