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1E4-F832-4629-AA0B-9E217251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F7D-ADA8-4347-BFCD-A265834F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4C0-61DF-4EB8-B265-3FE08344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85D-297C-45A6-91F1-F380840B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EDA-9E89-46B8-A487-86587705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A59-659A-46A6-934E-B55B88B4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1F6-BC55-4C00-8580-0744E95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3B4-DEE3-4E58-843C-56988AB7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694-7177-4706-89E2-3C5A0EFD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B52-CE1F-46F6-9572-F1D6DF4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6C5-8495-4A62-975C-C5C7DDA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F3C-C590-43E1-8596-D2FD9EDE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0F31-E2C8-4667-AD58-C6E25DDB5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867280" cy="447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0" y="5410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C03-EE1A-4E9B-8483-B2C8AC28ED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91720" cy="38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726-7AED-4E90-9EAC-D80BAB122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9000" y="1981080"/>
            <a:ext cx="8955000" cy="372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F93-0509-4C85-9E6B-F672B4F4AC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488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55627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F1F-2814-42D0-90C2-A833CE3922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53341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8E9-C32C-48C0-BAA6-F2C90C817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443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53341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749-3C94-4DE0-9D76-DEA7F708C7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48006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B07-96DB-4DD8-A24E-7EC385F08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000" y="1219320"/>
            <a:ext cx="906300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594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10A-1C2F-4AA8-BCA4-12BB471EF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918640" cy="39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36280" y="114300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897-02DF-45F3-A1F5-383EBD5928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60320" y="12952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550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92E-DB0C-4899-96AD-CB347627AF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6032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867640" cy="52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87E-BC8C-4F93-AF26-8632C4B06D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7:00Z</dcterms:created>
  <dc:creator>Joyce Waid</dc:creator>
  <dc:description/>
  <dc:language>en-US</dc:language>
  <cp:lastModifiedBy>Joyce Waid</cp:lastModifiedBy>
  <dcterms:modified xsi:type="dcterms:W3CDTF">2006-04-01T22:50:11Z</dcterms:modified>
  <cp:revision>2</cp:revision>
  <dc:subject/>
  <dc:title>Content Standard 11</dc:title>
</cp:coreProperties>
</file>