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C11-7CFB-42A2-9CE7-3A855145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8E97-6762-4228-AA74-AC2C11CA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6EA-8A45-401C-9E1A-169ED675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5C3F-E5E2-402C-AF9E-D3A159A0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99AF-4E8D-4D93-AF8B-F75580D7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811E-109E-4944-84CB-E2642847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32D-C99B-4514-A212-65B810C1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E40-DB57-4CEC-8F6C-18F0CE13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6B81-56C7-4098-9857-D5B75307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2E1-786A-42B2-83F2-ABAB0AB5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0890-F31A-4D02-9B45-270A9227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27E-46EB-4FE9-A8E4-4617B74E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8A8A-B385-4FF2-853B-115DF33D6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8680" y="1444680"/>
            <a:ext cx="9026640" cy="396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791320" y="510552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A96-3075-47D7-BE00-9B1AE41EA1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5329080" cy="52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587-630C-4CF5-8D00-A39A0B62C3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518440" cy="535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419-E5F5-47F9-B8B9-20FB218E7A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943600" cy="4746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467480" y="20574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EF1-F6D0-422F-A7C2-F24FDD3B8E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240440" cy="495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9880" y="487692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E08-F37B-4353-A875-6A07F24773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4095720" cy="437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4311720" cy="144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6616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35A-24C6-4800-ABB4-F0DB00EAF3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298680" cy="5538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275000" cy="1683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5632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D4A6-8228-4608-BD2F-5CAD03DA13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167360" cy="3770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427500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6616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106-8D24-4739-B49E-170E272DB9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4023000" cy="3816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4275360" cy="13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6616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268-435D-44CB-BE23-2B4A6640CE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059360" cy="296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4275360" cy="140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89840" y="19051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B81-52D7-416B-9292-3866835DE2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4059000" cy="472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4346280" cy="1619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89840" y="19051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137-DCE9-47DC-B839-C602C5564F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370160"/>
            <a:ext cx="7750080" cy="548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46EA-366A-4229-9E83-143E7AA234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3:02:12Z</dcterms:created>
  <dc:creator>Joyce Waid</dc:creator>
  <dc:description/>
  <dc:language>en-US</dc:language>
  <cp:lastModifiedBy>Joyce Waid</cp:lastModifiedBy>
  <dcterms:modified xsi:type="dcterms:W3CDTF">2006-04-01T23:09:21Z</dcterms:modified>
  <cp:revision>2</cp:revision>
  <dc:subject/>
  <dc:title>Content Standard 12</dc:title>
</cp:coreProperties>
</file>