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96C-FA48-4814-A316-0AE994ED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C97-A8A6-4804-A8A5-6309781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A84-41FE-4401-8E41-09DA2A79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2FB-1195-49C7-8BFA-2C31ED99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C0D-15F1-4340-9612-753A5100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CB5-FCD7-407B-8C16-EAE077FA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B4B-FD69-4CF7-AF5B-482A684E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39D-02DE-4492-BD32-A164E80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469-3CFF-4518-9B57-A501B37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EEC-8970-4377-9F18-7CDD272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D94-EE08-4269-A326-1C38D4D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A35-840F-4B2B-9B2D-FABE180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1E6D-2EAB-47A5-AF69-8A4262D3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80" y="1444680"/>
            <a:ext cx="9026640" cy="39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1320" y="510552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519-D1C8-4EB2-9407-7ECA919684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32908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28B-9AAC-4420-9FE0-8948E82D20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51844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C87-3E38-4CA0-B4CC-6DC965EEAB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88D-779A-44F8-B2E5-5E7DDE15A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40440" cy="495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876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0F8-1AF7-480A-B9D1-1CBF4A686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95720" cy="437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31172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481-5555-425D-AB7A-92104D5CF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298680" cy="55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275000" cy="16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5632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315-522C-4766-8923-7E45280BD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67360" cy="37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275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056-6D90-47E5-A4E9-047F4DF04F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230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75360" cy="13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86A-0E7A-4F3B-8829-E0B00F3CDA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59360" cy="29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275360" cy="14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C35-42AE-4FAE-B070-1F8A4981B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059000" cy="47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434628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F9F-5D04-4159-9211-B4FCFA3A7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0160"/>
            <a:ext cx="7750080" cy="548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C3D-5309-47C9-A3B7-8ED68E5CE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02:12Z</dcterms:created>
  <dc:creator>Joyce Waid</dc:creator>
  <dc:description/>
  <dc:language>en-US</dc:language>
  <cp:lastModifiedBy>Joyce Waid</cp:lastModifiedBy>
  <dcterms:modified xsi:type="dcterms:W3CDTF">2006-04-01T23:09:21Z</dcterms:modified>
  <cp:revision>2</cp:revision>
  <dc:subject/>
  <dc:title>Content Standard 12</dc:title>
</cp:coreProperties>
</file>