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E831-3D1A-47C5-8E21-EA1884FB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7F27-8D39-4E11-AA78-316EE458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89F5-EF0B-4434-B0B2-0F00D11E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63AE-8CF0-4446-9371-E4D5D07B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259-D5B0-44EF-9D86-D4EB6E5F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D04D-F047-47A9-B5F7-E229F9E5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82F9-60A9-4224-883A-56379B6B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0117-951D-44D1-A289-E896B0B3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6D23-AEBE-488E-B201-B9E24517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FED4-3FFF-4220-8ED8-033A7435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F768-0F77-4255-A694-CC5F8C69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0718-754F-4195-AA45-EA5B0B64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A9A2-15FB-4314-9D9D-36D7CDF73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8680" y="1444680"/>
            <a:ext cx="9026640" cy="3968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791320" y="510552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C437-E2DB-4BD5-A843-1E0162450B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3628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5329080" cy="521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3D3-BAD0-4403-9FDA-8857A49D49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3628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518440" cy="535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C035-6F90-4744-AC18-338A7DF524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3628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943600" cy="4746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467480" y="20574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E6FE-A592-4491-9C94-3B53B1D115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240440" cy="4950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9880" y="487692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894-396F-4971-97CB-4FF41E9346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4095720" cy="437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24280" y="3048120"/>
            <a:ext cx="4311720" cy="144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66160" y="14479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08C3-EAC6-4C11-A22C-CDB404299C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3298680" cy="5538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4275000" cy="1683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56320" y="14479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C38C-816A-4259-8DAA-1D3C1AEB93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4167360" cy="3770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4275000" cy="1143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66160" y="14479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A7E8-9781-4E8E-9864-AC9D13FC70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4023000" cy="3816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95680" y="2514600"/>
            <a:ext cx="4275360" cy="13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66160" y="14479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55A-346E-49B4-BF83-2F2B772E2E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059360" cy="2960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4275360" cy="140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289840" y="19051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7822-BD4F-49AB-A079-6DF587D0ED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4059000" cy="4724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4346280" cy="1619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289840" y="19051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A98A-E3A8-483F-AC35-50D684B62C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1370160"/>
            <a:ext cx="7750080" cy="548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53628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F082-4F3F-46C8-BAEC-939233BED8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3:02:12Z</dcterms:created>
  <dc:creator>Joyce Waid</dc:creator>
  <dc:description/>
  <dc:language>en-US</dc:language>
  <cp:lastModifiedBy>Joyce Waid</cp:lastModifiedBy>
  <dcterms:modified xsi:type="dcterms:W3CDTF">2006-04-01T23:09:21Z</dcterms:modified>
  <cp:revision>2</cp:revision>
  <dc:subject/>
  <dc:title>Content Standard 12</dc:title>
</cp:coreProperties>
</file>