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28E-859B-4B32-8DF0-E45C780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CC3-4E20-45AE-937B-E7F9A9F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060-97C6-434C-ADF4-D8B783EA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21A-4D74-4F35-83AC-7C2A7BD7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FC0-B9F5-4EA0-AD25-70DECB96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3DC-BC8F-4101-9E85-325EC628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45F-6C81-42C2-A704-C403B07F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208-C77D-4708-B825-7DB62AAE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185-F6CC-4329-BF3B-87D1EAF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7E0-947E-4AE9-8121-05EE3DE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3BB-B0E3-4FEF-9D32-31E6BFA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DAB-2F73-48BB-854A-1CBB8320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D328-A68E-435F-A83A-AD927EF9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0AC-B02D-4A2E-B1E3-E1702F1180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02040" y="838080"/>
            <a:ext cx="45622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335-2BE9-4F3E-AFE4-66FE071406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560-62B8-4A13-A1F8-7D07561974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49240"/>
            <a:ext cx="5610240" cy="60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239-C669-4709-9D36-59A5AD7EA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00" y="1600200"/>
            <a:ext cx="906300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C6A-E101-45FD-8F43-4E817A3C26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30640" cy="33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31172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58200" y="4038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0C2-5900-4B0F-A562-CA3835FF2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95720" cy="34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11720" cy="310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40384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313-1B83-4DDB-A828-7818EC79CF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625760"/>
            <a:ext cx="7391520" cy="364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46483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88D-9EED-4105-95A2-69EFFCB261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824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4343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AF9-9552-4435-9829-0643069E30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023000" cy="469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275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950-3EBF-4B8D-95F0-323BEA029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311720" cy="37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895-96D5-48FF-9A3E-ABC06DA943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022640" cy="250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31136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513-CF5B-4AED-8B51-06C1FAE30D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88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372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253-3B45-491E-9A3C-C45CDBAE02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19:32Z</dcterms:created>
  <dc:creator>Joyce Waid</dc:creator>
  <dc:description/>
  <dc:language>en-US</dc:language>
  <cp:lastModifiedBy>Joyce Waid</cp:lastModifiedBy>
  <dcterms:modified xsi:type="dcterms:W3CDTF">2006-04-01T23:24:18Z</dcterms:modified>
  <cp:revision>2</cp:revision>
  <dc:subject/>
  <dc:title>Content Standard 13</dc:title>
</cp:coreProperties>
</file>