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8.wmf" ContentType="image/x-wmf"/>
  <Override PartName="/ppt/media/image13.png" ContentType="image/png"/>
  <Override PartName="/ppt/media/image12.wmf" ContentType="image/x-wmf"/>
  <Override PartName="/ppt/media/image17.wmf" ContentType="image/x-wmf"/>
  <Override PartName="/ppt/media/image16.wmf" ContentType="image/x-wmf"/>
  <Override PartName="/ppt/media/image15.png" ContentType="image/png"/>
  <Override PartName="/ppt/media/image14.wmf" ContentType="image/x-wmf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B9C43-16A6-42EB-9869-7DCF73344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2E785-F30F-4B37-8860-EEFDAC0B7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97886-24DE-47B7-BA18-FFAB2794D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DE275-F926-4598-91FB-4F3558EA4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6F422-5E8A-4A4E-AA5C-110A12110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6D29D-9CB0-4000-9DFE-18E441701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0A74A-B7DC-4360-9606-84D9BDD79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83A14-84FD-4D78-9615-EB89D4B79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16E73-7AE1-4431-ADB8-8E4312457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B3453-3423-4B51-9E82-C2315FD04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137DF-A68E-4395-B8A9-5276B354C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EA330-EF10-4976-9503-A8B5DA9A8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4335F-D693-4087-B767-461DC7C973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1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981080" y="1066680"/>
            <a:ext cx="5105520" cy="51055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3962520" y="5715000"/>
            <a:ext cx="30456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5624F-3F6C-4973-A01F-F1EF621665C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1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4480" y="990720"/>
            <a:ext cx="1982160" cy="3682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n-Ended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3002040" y="838080"/>
            <a:ext cx="4562280" cy="5715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AEA58-AFFC-4483-BEB9-4B8EF9B95AD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1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64480" y="990720"/>
            <a:ext cx="1982160" cy="3682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n-Ended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80880" y="1600200"/>
            <a:ext cx="849312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6B315-A6E7-40E2-A238-AA9A5618CB5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1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64480" y="990720"/>
            <a:ext cx="1982160" cy="3682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n-Ended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3048120" y="849240"/>
            <a:ext cx="5610240" cy="6008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C6EF3-F8D3-40DF-BEAF-1548B9992EA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1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64480" y="990720"/>
            <a:ext cx="1982160" cy="3682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n-Ended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81000" y="1600200"/>
            <a:ext cx="9063000" cy="3978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F8888-2215-4B59-B6B2-DB6F9E40644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1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533520" y="1447920"/>
            <a:ext cx="4130640" cy="33382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4724280" y="1600200"/>
            <a:ext cx="4311720" cy="2798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458200" y="4038480"/>
            <a:ext cx="2286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53678-ECC7-4B8C-9C7C-FD5AF3DCC3B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1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57200" y="1447920"/>
            <a:ext cx="4095720" cy="34192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4572000" y="1371600"/>
            <a:ext cx="4311720" cy="3105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324480" y="4038480"/>
            <a:ext cx="15264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32CE0-BBB0-4C07-B2E3-393493B4EB8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1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838080" y="1625760"/>
            <a:ext cx="7391520" cy="3641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5715000" y="4648320"/>
            <a:ext cx="3049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9A701-8AD2-49F0-A3E1-1DB895120B7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1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752480" y="1447920"/>
            <a:ext cx="5988240" cy="34099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743200" y="4343400"/>
            <a:ext cx="2286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649F9-84D8-4766-B0B6-1C20875EA8C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1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609480" y="1066680"/>
            <a:ext cx="4023000" cy="46976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4648320" y="2971800"/>
            <a:ext cx="4275000" cy="2232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502600" y="1484280"/>
            <a:ext cx="2590200" cy="3682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idded Response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AF584-9226-4540-8675-62B0BAADD8B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1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502600" y="1484280"/>
            <a:ext cx="2590200" cy="3682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idded Response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838080" y="1371600"/>
            <a:ext cx="4311720" cy="3726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E2562-DEF1-440F-8E27-56B57E4A558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1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2600" y="1484280"/>
            <a:ext cx="2590200" cy="3682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idded Response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533520" y="2057400"/>
            <a:ext cx="4022640" cy="25020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4419720" y="2514600"/>
            <a:ext cx="4311360" cy="2690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A17C6-10EE-4161-A9DF-1A704DB84A8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1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35880" y="762120"/>
            <a:ext cx="1982160" cy="3682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n-Ended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2590920" y="838080"/>
            <a:ext cx="6372000" cy="5715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0067B-BF5E-427F-BCC1-7A40661835C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1T23:19:32Z</dcterms:created>
  <dc:creator>Joyce Waid</dc:creator>
  <dc:description/>
  <dc:language>en-US</dc:language>
  <cp:lastModifiedBy>Joyce Waid</cp:lastModifiedBy>
  <dcterms:modified xsi:type="dcterms:W3CDTF">2006-04-01T23:24:18Z</dcterms:modified>
  <cp:revision>2</cp:revision>
  <dc:subject/>
  <dc:title>Content Standard 13</dc:title>
</cp:coreProperties>
</file>