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BCF-3CA8-4B1F-B7FD-074FEB61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26E-C78D-45FB-AD5D-1CBFB0AC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592-51FC-4A52-B20B-42BCB572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831-1FC9-4C0E-842E-2F4B19B1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978-80ED-4CD3-9602-BE64B233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F33-E62E-44CA-97DA-23329D54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3FF-E904-4C50-8D99-D45312C5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ADB-80CC-46C7-A34D-814EEC26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63A-8EF4-48DC-897F-6C64CB8E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965-4B74-4599-A2BF-F802DB2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1C0-7294-4D5D-AA44-57C4EEC3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C8A-1EF1-4413-8CEB-D98B3B2A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2ACB-25C9-4800-8B9C-3B21DC545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25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087-D876-4BA0-8713-9561697CB4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02040" y="838080"/>
            <a:ext cx="456228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F3A-A875-45D5-89C1-8CBB206CED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931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7EF-B00F-4674-A365-07C0E3E47D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8120" y="849240"/>
            <a:ext cx="5610240" cy="60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A9C-A886-418B-8EA4-42CD4980FC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00" y="1600200"/>
            <a:ext cx="9063000" cy="39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0DD-F702-4813-BD77-BE7DA513A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30640" cy="333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311720" cy="279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58200" y="40384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562-9DE1-4163-B6BB-FF90E801E8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95720" cy="341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311720" cy="310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24480" y="40384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C50-FA33-4221-9584-6D82211C2D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625760"/>
            <a:ext cx="7391520" cy="3641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46483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7D4-6495-4CB4-9B5B-29DB089A9E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88240" cy="34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43200" y="43434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423-17F7-4D1E-8DC4-370D5FC146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023000" cy="469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275000" cy="223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45F-59D6-4B2A-9D0A-2F23CFB019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311720" cy="37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B03-F509-41DA-AB73-36294E6820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022640" cy="250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431136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5BC-EC3A-4218-9660-E6AA42539D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88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372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C0C-9D5B-4288-8313-600DC1B1EF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19:32Z</dcterms:created>
  <dc:creator>Joyce Waid</dc:creator>
  <dc:description/>
  <dc:language>en-US</dc:language>
  <cp:lastModifiedBy>Joyce Waid</cp:lastModifiedBy>
  <dcterms:modified xsi:type="dcterms:W3CDTF">2006-04-01T23:24:18Z</dcterms:modified>
  <cp:revision>2</cp:revision>
  <dc:subject/>
  <dc:title>Content Standard 13</dc:title>
</cp:coreProperties>
</file>