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3B15-2D63-4AC2-A785-FF2D83674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8AD7-8F6F-4451-BF08-52FA7F8B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57A0-7791-41BB-8863-8D9EDE3D2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CC0C-1F45-4524-A303-B24E4661F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9405-1093-44AD-8BCE-D4E69710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69DD-0E2A-47E7-88FF-1BDCFB11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AE3C-3D39-4222-B24A-3FC92E3A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FC9D-F6B0-4D8B-B99C-8D157746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EF88-5156-4DCA-A45F-1D42EA8F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D991-4AAE-4ABB-97C7-AFD8C18D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4DBF-B55C-43C7-B455-BF35B03A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B475-B5B5-4EA7-ACE0-572A9E5E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0997-C3D0-4952-B72C-5F48F1697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5105520" cy="5105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962520" y="571500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D57D-B3FE-496E-AAC1-FF681ED4DC0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4480" y="99072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002040" y="838080"/>
            <a:ext cx="4562280" cy="571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0E5D-9AD5-4153-81C6-26AB886FC0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4480" y="99072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49312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2F3B-A79D-421F-99FC-F5FDA826E6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64480" y="99072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048120" y="849240"/>
            <a:ext cx="5610240" cy="600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9D39-4A19-4DC9-AD74-FD4F89A3E6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4480" y="99072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1000" y="1600200"/>
            <a:ext cx="9063000" cy="397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67D3-67D4-49CC-A826-3DDC9ED77D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4130640" cy="3338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4311720" cy="2798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458200" y="4038480"/>
            <a:ext cx="228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EF73-6EEC-473A-BEB2-D92DDD42E8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4095720" cy="3419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0" y="1371600"/>
            <a:ext cx="4311720" cy="310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324480" y="4038480"/>
            <a:ext cx="1526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252F-3DEB-4D56-9171-EE197BADD6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1625760"/>
            <a:ext cx="7391520" cy="3641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715000" y="464832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9474-BBE2-4198-8FA1-FBB1767241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988240" cy="3409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43200" y="434340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7923-D282-43C8-9F82-9AD4F09ED7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4023000" cy="4697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48320" y="2971800"/>
            <a:ext cx="4275000" cy="2232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502600" y="148428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C24F-3113-4E7D-A860-E161AEB5CA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02600" y="148428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4311720" cy="37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C4CF-951A-4553-9A34-11C0CE88A4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2600" y="148428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4022640" cy="2502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419720" y="2514600"/>
            <a:ext cx="4311360" cy="269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0E78-1D29-4502-8258-1F6C238E3E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5880" y="76212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90920" y="838080"/>
            <a:ext cx="6372000" cy="571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3D52-AF7F-47C3-8DE9-9ACC774549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23:19:32Z</dcterms:created>
  <dc:creator>Joyce Waid</dc:creator>
  <dc:description/>
  <dc:language>en-US</dc:language>
  <cp:lastModifiedBy>Joyce Waid</cp:lastModifiedBy>
  <dcterms:modified xsi:type="dcterms:W3CDTF">2006-04-01T23:24:18Z</dcterms:modified>
  <cp:revision>2</cp:revision>
  <dc:subject/>
  <dc:title>Content Standard 13</dc:title>
</cp:coreProperties>
</file>