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C860-2D54-43DD-BB96-D2224ADB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3B6-1A16-46CC-A460-21005D85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F96-15CD-4742-ABB0-80C1B39A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395-B2BA-4FB2-AD9A-52D6671B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517-C684-41C1-AD35-60234538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310-CC32-4A85-973B-B47579DE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8DD-A08E-48F5-8DCD-8A9C72BB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E95-8A01-44DC-BE96-134269B5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CA4-6F2B-456D-8E57-C6854D37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10C-154D-47F5-919E-A0374020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37D-58BD-4587-BFC6-F81131CE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8ED-3D3C-42BD-A764-F9485156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FC9A-9F01-4CBE-8122-C01784B2E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314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62720" y="38862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069-6380-4DDF-8660-F37B4E65DF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269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044-FA02-48E0-A4F4-30F92F4B30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2735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737-EB0B-4848-AF63-82FDE30BE3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229600" cy="243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119-ACAD-4823-AE2B-BA8B026F07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229600" cy="2389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68D-B564-4F06-8203-01EBC65EC3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32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7600" y="4038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0658-C504-4C7B-8AD4-0D5371C89B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289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15000" y="39625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8CD-1DAC-4C68-9D2F-2A9D97F4DA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3552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81080" y="4343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35B-E8A2-411E-AD6B-D77757377F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596960"/>
            <a:ext cx="8153280" cy="3697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0120" y="441972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2B5-E01D-462D-A42D-7EE53A77CC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305560" cy="3353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28800" y="44956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54C-086F-416A-A13C-0403B000C8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3662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33920" y="44956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D3A-D739-451B-8B24-CF6509EF6F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96440" cy="319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33920" y="41911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7C2-6439-4FB6-9347-252E566181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305920" cy="3699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9880" y="44956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B16-B36C-45B2-AB8D-C921C6F6D1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7:06:34Z</dcterms:created>
  <dc:creator>Joyce Waid</dc:creator>
  <dc:description/>
  <dc:language>en-US</dc:language>
  <cp:lastModifiedBy>DCS</cp:lastModifiedBy>
  <dcterms:modified xsi:type="dcterms:W3CDTF">2006-09-13T16:17:05Z</dcterms:modified>
  <cp:revision>7</cp:revision>
  <dc:subject/>
  <dc:title>Content Standard 2</dc:title>
</cp:coreProperties>
</file>