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8.wmf" ContentType="image/x-wmf"/>
  <Override PartName="/ppt/media/image9.png" ContentType="image/png"/>
  <Override PartName="/ppt/media/image1.png" ContentType="image/png"/>
  <Override PartName="/ppt/media/image3.wmf" ContentType="image/x-wmf"/>
  <Override PartName="/ppt/media/image4.wmf" ContentType="image/x-wmf"/>
  <Override PartName="/ppt/media/image13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F76C-F32D-4271-A60B-4202C3BC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97B7-8522-43A2-B706-AE113220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9155-881A-4A34-9A09-A7725B43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2A07-836C-4F0D-BAE5-CE10098B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58DA-D5CC-464A-8D98-99721008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4C9C-A67C-4746-9DA4-FEB1C626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99C4-DEA2-4744-9DA9-A7CE1A80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3420-27EE-40C6-8711-10D91B0E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DF99-BF79-4290-BBC7-E723321F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89C4-8CBC-4616-BFA9-B107FCB0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9DFA-3510-4EC8-9126-C97D4DED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CE4F-094E-44D3-B4C6-D1CACC46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90BD-57C1-45F2-857F-3A8FBB2B1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20120" cy="3149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562720" y="38862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96E4-02BB-410C-9799-8C6F1A6D3A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772400" cy="2695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6070-8443-457A-AE0F-A6BCDE93EA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924680" cy="2735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C543-35F0-450D-9A20-797BADB288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229600" cy="2433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FB62-0AA8-4F60-BAB7-752E79995E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229600" cy="2389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650B-4C0D-470B-836F-FCD7904F49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3276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57600" y="4038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B0DD-5CC1-4EAF-A537-FC939713EB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3289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715000" y="396252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A268-E998-4DC7-A910-D120E93304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848720" cy="3552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81080" y="43434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C669-3BFF-40B1-A713-8103A3A068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596960"/>
            <a:ext cx="8153280" cy="3697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20120" y="4419720"/>
            <a:ext cx="152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DE07-0E43-4EE8-B70B-E84F5AC54F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305560" cy="3353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828800" y="4495680"/>
            <a:ext cx="228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049A-0410-448E-9663-B2504CA4F3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077320" cy="3662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733920" y="449568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4F64-83F4-4244-BAA9-6C58F444CA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96440" cy="3193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733920" y="419112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0973-C190-4203-826C-FEB0020861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305920" cy="3699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09880" y="44956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DC51-A4C7-4D08-83C4-4EB0CE108E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17:06:34Z</dcterms:created>
  <dc:creator>Joyce Waid</dc:creator>
  <dc:description/>
  <dc:language>en-US</dc:language>
  <cp:lastModifiedBy>DCS</cp:lastModifiedBy>
  <dcterms:modified xsi:type="dcterms:W3CDTF">2006-09-13T16:17:05Z</dcterms:modified>
  <cp:revision>7</cp:revision>
  <dc:subject/>
  <dc:title>Content Standard 2</dc:title>
</cp:coreProperties>
</file>