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234-1182-46D3-A426-451B2A02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F27-E453-4120-AE1A-F2F2BDBB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2AF-8B7E-4ECA-9F69-A3879DBF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F83-86DA-47D2-84FE-FE9108D4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DE8-806C-4362-904E-C6104EC9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467-CCF0-4C15-9378-A43C3C7D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703-DD7D-4ADF-B789-4F167BD4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077-67B9-465A-9ADF-4085F55C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1DB-2318-4470-9BC4-712D1228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190-F5A8-41F4-871B-06256EF9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90C-3842-4845-BF8A-4A465252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4F2-0EFE-4BF1-8396-234D5A3E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775F-01B5-46B1-A187-49F2FB2F9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314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62720" y="38862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AED-8FA5-4A49-A92F-864DB341E7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269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D93-6378-4FE2-829B-EAA7594F89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273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63E-117C-4743-BE12-DC5CC79FF4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9600" cy="24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1E4-3726-4797-BE7B-7716B1A519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229600" cy="2389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642-8382-4C2D-8149-BBE8D1B537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4038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F38-1B51-429A-9D24-DE71176DE7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289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15000" y="39625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54A-FDC1-4CB7-9211-EAAEB47998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552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E26-D241-41D9-826C-9683E245FF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596960"/>
            <a:ext cx="8153280" cy="369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0120" y="441972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FFC-7EDD-4E93-BCDA-F39D0E8741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305560" cy="3353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C77-4EE4-4D1C-8E4C-5EB1F1C6CA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366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33920" y="44956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D11-EF10-4F08-8E59-AB71D58D24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96440" cy="319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33920" y="41911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5CE-0E03-4A9A-96E7-A4E21C51BF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305920" cy="369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9880" y="44956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947-494F-48CB-9B27-A64F1FB75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7:06:34Z</dcterms:created>
  <dc:creator>Joyce Waid</dc:creator>
  <dc:description/>
  <dc:language>en-US</dc:language>
  <cp:lastModifiedBy>DCS</cp:lastModifiedBy>
  <dcterms:modified xsi:type="dcterms:W3CDTF">2006-09-13T16:17:05Z</dcterms:modified>
  <cp:revision>7</cp:revision>
  <dc:subject/>
  <dc:title>Content Standard 2</dc:title>
</cp:coreProperties>
</file>