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png" ContentType="image/png"/>
  <Override PartName="/ppt/media/image8.wmf" ContentType="image/x-wmf"/>
  <Override PartName="/ppt/media/image9.png" ContentType="image/png"/>
  <Override PartName="/ppt/media/image1.png" ContentType="image/png"/>
  <Override PartName="/ppt/media/image3.wmf" ContentType="image/x-wmf"/>
  <Override PartName="/ppt/media/image4.wmf" ContentType="image/x-wmf"/>
  <Override PartName="/ppt/media/image13.wmf" ContentType="image/x-wmf"/>
  <Override PartName="/ppt/media/image5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0.wmf" ContentType="image/x-wmf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300B-D6AD-464B-A684-B3EF1FE3B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B4CD-B32D-48FA-B5DF-69C265808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8ADD-B445-4F59-8840-C05655B55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603D-ED73-4C16-87C8-345FF6CE0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6CBC-EC72-4012-B6D9-5A1BA075E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4EB4-2722-4E2C-8284-C3F6AE6B1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173D-8845-49B9-BE37-870EC5A7D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F6B2-2620-4B0D-AD88-9AD680027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648E-9AD7-4985-8D1E-AC445E695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E509-1128-49DF-8DFD-271BB7D71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74AA-4289-4DD6-A3D7-C1B148DDD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A10D-64DC-447C-9788-F81AE4054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ABCDE-0E88-400C-9677-A9586F4BB9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7620120" cy="31496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562720" y="3886200"/>
            <a:ext cx="3045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RS Question Icon" descr="PRS Question Icon"/>
          <p:cNvPicPr/>
          <p:nvPr/>
        </p:nvPicPr>
        <p:blipFill>
          <a:blip r:embed="rId2"/>
          <a:stretch/>
        </p:blipFill>
        <p:spPr>
          <a:xfrm>
            <a:off x="63360" y="622296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1FDD-E55D-454F-A55F-8EF9B68F726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762120" y="1752480"/>
            <a:ext cx="7772400" cy="26956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3156120" y="1219320"/>
            <a:ext cx="259020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idded Response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RS Question Icon" descr="PRS Question Icon"/>
          <p:cNvPicPr/>
          <p:nvPr/>
        </p:nvPicPr>
        <p:blipFill>
          <a:blip r:embed="rId2"/>
          <a:stretch/>
        </p:blipFill>
        <p:spPr>
          <a:xfrm>
            <a:off x="63360" y="622296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4583-F6B0-499C-BFCA-04764365399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7924680" cy="27352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156120" y="1219320"/>
            <a:ext cx="259020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idded Response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RS Question Icon" descr="PRS Question Icon"/>
          <p:cNvPicPr/>
          <p:nvPr/>
        </p:nvPicPr>
        <p:blipFill>
          <a:blip r:embed="rId2"/>
          <a:stretch/>
        </p:blipFill>
        <p:spPr>
          <a:xfrm>
            <a:off x="63360" y="622296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730A-90CE-4746-A01B-37A656FA1FF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533520" y="1981080"/>
            <a:ext cx="8229600" cy="24336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156120" y="1219320"/>
            <a:ext cx="259020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idded Response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RS Question Icon" descr="PRS Question Icon"/>
          <p:cNvPicPr/>
          <p:nvPr/>
        </p:nvPicPr>
        <p:blipFill>
          <a:blip r:embed="rId2"/>
          <a:stretch/>
        </p:blipFill>
        <p:spPr>
          <a:xfrm>
            <a:off x="63360" y="622296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8BCE-46E5-420C-95BC-CADCB47F8BC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80880" y="2057400"/>
            <a:ext cx="8229600" cy="23893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156120" y="1219320"/>
            <a:ext cx="259020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idded Response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RS Question Icon" descr="PRS Question Icon"/>
          <p:cNvPicPr/>
          <p:nvPr/>
        </p:nvPicPr>
        <p:blipFill>
          <a:blip r:embed="rId2"/>
          <a:stretch/>
        </p:blipFill>
        <p:spPr>
          <a:xfrm>
            <a:off x="63360" y="622296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D3F6-D75F-41C9-B15E-FD45E20B1BD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077320" cy="3276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657600" y="4038480"/>
            <a:ext cx="2286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RS Question Icon" descr="PRS Question Icon"/>
          <p:cNvPicPr/>
          <p:nvPr/>
        </p:nvPicPr>
        <p:blipFill>
          <a:blip r:embed="rId2"/>
          <a:stretch/>
        </p:blipFill>
        <p:spPr>
          <a:xfrm>
            <a:off x="63360" y="622296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4999-BAFC-4187-8527-17BD920B328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8229600" cy="32893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715000" y="3962520"/>
            <a:ext cx="228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RS Question Icon" descr="PRS Question Icon"/>
          <p:cNvPicPr/>
          <p:nvPr/>
        </p:nvPicPr>
        <p:blipFill>
          <a:blip r:embed="rId2"/>
          <a:stretch/>
        </p:blipFill>
        <p:spPr>
          <a:xfrm>
            <a:off x="63360" y="622296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1732-0421-4ED4-B4A1-D217014D03D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7848720" cy="35528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981080" y="4343400"/>
            <a:ext cx="3812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RS Question Icon" descr="PRS Question Icon"/>
          <p:cNvPicPr/>
          <p:nvPr/>
        </p:nvPicPr>
        <p:blipFill>
          <a:blip r:embed="rId2"/>
          <a:stretch/>
        </p:blipFill>
        <p:spPr>
          <a:xfrm>
            <a:off x="63360" y="622296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AE0B-0CFA-4994-9E37-36867A9BE3E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33520" y="1596960"/>
            <a:ext cx="8153280" cy="36972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620120" y="4419720"/>
            <a:ext cx="1522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RS Question Icon" descr="PRS Question Icon"/>
          <p:cNvPicPr/>
          <p:nvPr/>
        </p:nvPicPr>
        <p:blipFill>
          <a:blip r:embed="rId2"/>
          <a:stretch/>
        </p:blipFill>
        <p:spPr>
          <a:xfrm>
            <a:off x="63360" y="622296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5467-B74B-44FB-9AE4-2B68006135E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8305560" cy="33530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828800" y="4495680"/>
            <a:ext cx="2286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RS Question Icon" descr="PRS Question Icon"/>
          <p:cNvPicPr/>
          <p:nvPr/>
        </p:nvPicPr>
        <p:blipFill>
          <a:blip r:embed="rId2"/>
          <a:stretch/>
        </p:blipFill>
        <p:spPr>
          <a:xfrm>
            <a:off x="63360" y="622296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F630-E3CF-4156-947B-93741C404B3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077320" cy="3662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733920" y="4495680"/>
            <a:ext cx="228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RS Question Icon" descr="PRS Question Icon"/>
          <p:cNvPicPr/>
          <p:nvPr/>
        </p:nvPicPr>
        <p:blipFill>
          <a:blip r:embed="rId2"/>
          <a:stretch/>
        </p:blipFill>
        <p:spPr>
          <a:xfrm>
            <a:off x="63360" y="622296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AFDA-4238-4C9C-9673-B5A252794D9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7696440" cy="31939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733920" y="4191120"/>
            <a:ext cx="2286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RS Question Icon" descr="PRS Question Icon"/>
          <p:cNvPicPr/>
          <p:nvPr/>
        </p:nvPicPr>
        <p:blipFill>
          <a:blip r:embed="rId2"/>
          <a:stretch/>
        </p:blipFill>
        <p:spPr>
          <a:xfrm>
            <a:off x="63360" y="622296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A0E7-34C2-4F74-B6C0-06354773E6A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57200" y="1596960"/>
            <a:ext cx="8305920" cy="3699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3809880" y="4495680"/>
            <a:ext cx="2286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RS Question Icon" descr="PRS Question Icon"/>
          <p:cNvPicPr/>
          <p:nvPr/>
        </p:nvPicPr>
        <p:blipFill>
          <a:blip r:embed="rId2"/>
          <a:stretch/>
        </p:blipFill>
        <p:spPr>
          <a:xfrm>
            <a:off x="63360" y="622296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6FCD-1932-439C-A335-629099EF45E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31T17:06:34Z</dcterms:created>
  <dc:creator>Joyce Waid</dc:creator>
  <dc:description/>
  <dc:language>en-US</dc:language>
  <cp:lastModifiedBy>DCS</cp:lastModifiedBy>
  <dcterms:modified xsi:type="dcterms:W3CDTF">2006-09-13T16:17:05Z</dcterms:modified>
  <cp:revision>7</cp:revision>
  <dc:subject/>
  <dc:title>Content Standard 2</dc:title>
</cp:coreProperties>
</file>