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013-0CD4-4865-A710-A5C66E37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1D6-15A6-46FE-B695-99F7AE14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465-0B83-495D-A453-B6B5FB7F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0F8-54F0-451F-A9D7-BD5594F5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61B-2D25-430B-A1CC-196AD8CF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EAF-8ABE-4FD9-858C-7A512C67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28A-F4A6-4A67-B6D5-00CD0EE3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6C8-A921-436E-93B1-1CB88CB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515-ADB9-45D6-A34A-358AB92B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354-1D1D-4679-882D-D7C8CD0A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358-1C4C-4A17-9342-7BD89E2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AA7-8C43-41AE-A8C7-A489FF3D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D9A8-14A7-4E41-A47D-7503E72EE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172200" cy="500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5C2-98BB-4980-B3B3-17EEEB4B3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1378080"/>
            <a:ext cx="5943600" cy="48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EFD-0BD8-4BA6-BC1D-D784E7C156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1512720"/>
            <a:ext cx="5943600" cy="470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3962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966-D8BB-4CAD-A6EC-302FB687B7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04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8862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0E0-A5CE-4F6D-8154-9D6A967BF0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75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40384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F9C-D80E-464F-A00B-15016524AF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318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91520" y="403848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5C2-212D-4582-A4D3-2A51611D79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498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092-2E3A-4214-8EAA-38EA706270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29400" cy="480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5410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F4B-54AD-4707-8DCC-9DB17FDCE3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00Z</dcterms:created>
  <dc:creator>Joyce Waid</dc:creator>
  <dc:description/>
  <dc:language>en-US</dc:language>
  <cp:lastModifiedBy>Joyce Waid</cp:lastModifiedBy>
  <dcterms:modified xsi:type="dcterms:W3CDTF">2006-04-01T03:04:14Z</dcterms:modified>
  <cp:revision>1</cp:revision>
  <dc:subject/>
  <dc:title>Content Standard 3</dc:title>
</cp:coreProperties>
</file>