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1299-2299-4090-8DB3-469A0915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B123-BAE9-4CCD-8C65-191A0032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C8BA-5471-4C97-89A4-A685FA86D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0740-3CE4-495C-BF98-9C8CFB3E6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5761-CA0A-4583-AD40-5AD3E5F4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4B5E-84F5-4356-9F3D-10A15050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EAD3-389B-455F-81ED-F15F3694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E794-1513-4B84-B362-9FFA7919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EF50-954D-47E5-8378-8B0FC1CB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B51B-CC92-4540-9398-6E8B8E8F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3967-DF6E-447B-A5CA-B59AFC8F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6AB7-232E-482B-9227-ACA31013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11F5-F087-46C1-AC68-F760AC8DC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172200" cy="5006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767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F423-2614-4733-838E-440D9980C1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76520" y="1378080"/>
            <a:ext cx="5943600" cy="4843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429000" y="312408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183D-9020-4BD2-B66B-4E9F2DA977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00200" y="1512720"/>
            <a:ext cx="5943600" cy="4700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00400" y="39625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5EE7-5703-41FA-AD7A-964D537873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19760" cy="4046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971800" y="3886200"/>
            <a:ext cx="380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DCF1-26E9-4E6E-BD3E-D41F73D2C3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858000" cy="4757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895480" y="4038480"/>
            <a:ext cx="228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8406-BC76-4976-8A50-D9929E5A3C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848720" cy="3182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391520" y="4038480"/>
            <a:ext cx="3045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28AD-13A5-4FD0-9894-06852D669E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562720" cy="4987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352680" y="52578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97D3-6D5B-47F4-A6C9-880AE75CF6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629400" cy="4809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715000" y="5410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A47D-C48B-44F9-8DB3-E487710B9F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03:04:00Z</dcterms:created>
  <dc:creator>Joyce Waid</dc:creator>
  <dc:description/>
  <dc:language>en-US</dc:language>
  <cp:lastModifiedBy>Joyce Waid</cp:lastModifiedBy>
  <dcterms:modified xsi:type="dcterms:W3CDTF">2006-04-01T03:04:14Z</dcterms:modified>
  <cp:revision>1</cp:revision>
  <dc:subject/>
  <dc:title>Content Standard 3</dc:title>
</cp:coreProperties>
</file>