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483-EB3E-4FF8-ADF6-DAD421A4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D4E-7242-48A5-84F6-A4B995FF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FC2-9E78-48CB-9097-AE14A952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21B-B2DC-49BD-B76E-9AFF9C8F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30B-8453-46D7-9F85-BE3DC92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393-4926-486B-97C6-F2F2F99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4EF-D737-47F0-B55E-F253AF9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166-A0FA-4C29-8C85-6D05BC7A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256-BD1D-468E-9EBA-68038FC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254-80A8-401A-8335-FA4118FC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34F-3CC9-494B-BA6A-6A24C869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631-C4C7-49F8-BFBF-16A2538C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84FC-91B0-4553-A1B6-6E5636FB4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479-212B-4ABA-895C-17284969BC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378080"/>
            <a:ext cx="5943600" cy="48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7D6-5A92-4B3A-800E-8645AFFB7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512720"/>
            <a:ext cx="5943600" cy="470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962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219-F4CD-4771-AE14-29744B374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8862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E10-41A2-4DAA-95A3-1327214F5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0384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EE2-AD66-48E2-9A26-FDC397D626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31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03848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7F4-CE6E-4289-B591-F1F5AF1813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49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36A-C8F0-42E6-AC03-17B7AB91DF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48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5410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E58-8E1B-4728-9EE2-8F294E3AC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00Z</dcterms:created>
  <dc:creator>Joyce Waid</dc:creator>
  <dc:description/>
  <dc:language>en-US</dc:language>
  <cp:lastModifiedBy>Joyce Waid</cp:lastModifiedBy>
  <dcterms:modified xsi:type="dcterms:W3CDTF">2006-04-01T03:04:14Z</dcterms:modified>
  <cp:revision>1</cp:revision>
  <dc:subject/>
  <dc:title>Content Standard 3</dc:title>
</cp:coreProperties>
</file>