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F19-F212-4EA1-912D-EDCD56AB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2B7-02CB-4617-9AD9-D3622824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67E-0DCD-477E-B837-8BFB94A9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D8F-F513-4E8F-BF56-F341ABEC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9A0-FCBC-4CE0-9B9C-EEB14410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D47-05C5-4217-B936-0C8E7A62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E3F-1C81-4CF0-8639-2BF6AD4A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8DD-1B17-456F-A25B-6B6B1DA5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075-6449-400B-9EFD-039BE8B9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2CD-7DAE-47B7-9A58-09E41E5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ECA-593A-418C-AC86-D73B48E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A81-8772-4A88-96E3-FD4A76CE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7D60-3770-4C24-9D0B-4A5DC63E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172200" cy="500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B25-6C0A-414B-95CC-C1BED30FCA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1378080"/>
            <a:ext cx="5943600" cy="48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C31-A834-4A0E-9A3F-D03BE178F5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1512720"/>
            <a:ext cx="5943600" cy="470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3962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754-5414-4A1F-80E3-08927223D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04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8862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88F-3405-4679-9D0C-DBE431F048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75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40384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816-1E18-4CF1-9B7D-588153569A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318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91520" y="403848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708-4BBE-491A-BE39-A14CFFBEF7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498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829-FEC9-430F-992C-5AC75B8D6B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29400" cy="480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5410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720-4A8C-49E6-A5AD-5236086E08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00Z</dcterms:created>
  <dc:creator>Joyce Waid</dc:creator>
  <dc:description/>
  <dc:language>en-US</dc:language>
  <cp:lastModifiedBy>Joyce Waid</cp:lastModifiedBy>
  <dcterms:modified xsi:type="dcterms:W3CDTF">2006-04-01T03:04:14Z</dcterms:modified>
  <cp:revision>1</cp:revision>
  <dc:subject/>
  <dc:title>Content Standard 3</dc:title>
</cp:coreProperties>
</file>