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5F3-0B82-43DB-B305-6AEB7124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81D-19FA-4665-B254-482717CE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2E5-0C0A-4B3D-834A-00FDFCBF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C57-DEC8-4808-ADDC-DC729A1B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291-7B3E-4E7B-8917-F06AB14B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126-DF35-4768-9C75-215E04BD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3D4-6596-486A-84D3-CE6F618B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1F4-DA8E-4B15-AB6F-BAE02219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4BD-5B6F-4787-B564-27D78292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32E-F256-4988-87CE-9F503DC2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3BC-8B9F-4227-87B8-F8E145B2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E79-FF29-4A6F-8302-AB5CCEA4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122B-3B86-4844-9936-E35706751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19420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5518080" cy="348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1447920"/>
            <a:ext cx="5486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8195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774-ED55-4155-886F-0E0A86209F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5867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351080"/>
            <a:ext cx="4343400" cy="386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62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25780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E5F-2DD8-4093-A595-B42543F59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791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62160"/>
            <a:ext cx="4299120" cy="366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952880"/>
            <a:ext cx="42670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97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2670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724-AFA1-4BC6-B3D5-EBD812029F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6064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86728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54640" cy="320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5680" y="160020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600200"/>
            <a:ext cx="0" cy="3124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0481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EC9-218D-4315-8C46-C8EB8C727B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96040" cy="2641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280" y="5181480"/>
            <a:ext cx="4267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8108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1911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303-285F-42B9-987C-F1FF53A323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1824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7913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527720" cy="265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1981080"/>
            <a:ext cx="4572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8862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C1C-F471-4BC8-9663-0BEE205CB1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20228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791320"/>
            <a:ext cx="4191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219320"/>
            <a:ext cx="0" cy="457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16280" y="2819520"/>
            <a:ext cx="4527720" cy="141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281952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32004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297-81B7-4D6E-A1BF-BF7C361282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0590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5867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52772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220968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114800"/>
            <a:ext cx="75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8C2-660D-438E-A960-28E614752D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627200"/>
            <a:ext cx="4267080" cy="368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5334120"/>
            <a:ext cx="4267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375080" cy="254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8320" y="213372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657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EAA-C0A7-4A7F-927D-74D653243D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39Z</dcterms:created>
  <dc:creator>Joyce Waid</dc:creator>
  <dc:description/>
  <dc:language>en-US</dc:language>
  <cp:lastModifiedBy>Joyce Waid</cp:lastModifiedBy>
  <dcterms:modified xsi:type="dcterms:W3CDTF">2006-04-01T20:19:34Z</dcterms:modified>
  <cp:revision>2</cp:revision>
  <dc:subject/>
  <dc:title>Content Standard 4</dc:title>
</cp:coreProperties>
</file>