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7AD-6AAA-4149-86AA-BD0A0452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172-0265-4DA9-BB35-8E89EDD5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3AC-C27B-4122-81DD-D3BCFECC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EBF-C004-4DE8-8976-7B804D2A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056-1F35-4790-836A-6E79A9A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450-C3D0-433B-B96E-12FD4BC5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28C-4CEB-4641-A576-9F6828D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5AF-806C-40EB-81DE-7F62773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CD4-761F-4A09-9598-0ED5CBD6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0B6-634A-4A4D-AAEE-8187FFCC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5EE-2BC6-4A2A-883F-C5C13FAA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A71-21DA-4074-B9EB-A8BA19D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B9FB-4CDD-4DD4-9A31-41E38618B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19420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518080" cy="348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1447920"/>
            <a:ext cx="5486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8195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F9B-2313-43D6-831E-3A94239AFE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351080"/>
            <a:ext cx="434340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6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25780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32E-EAAF-47FC-82F1-1F751818C5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791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62160"/>
            <a:ext cx="429912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952880"/>
            <a:ext cx="426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97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2670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47E-BAE4-4AE2-9B87-99188C467C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6064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54640" cy="320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60020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600200"/>
            <a:ext cx="0" cy="3124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0481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8E5-E225-4FA5-830A-D7DA6437A7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96040" cy="2641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5181480"/>
            <a:ext cx="4267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8108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1911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199-093C-406C-956C-3A33076BC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182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527720" cy="265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981080"/>
            <a:ext cx="4572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8862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611-C02A-456E-AD26-9D287299D7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2022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0" cy="457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16280" y="2819520"/>
            <a:ext cx="4527720" cy="141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281952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200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441-2A0F-411B-A015-053D6610B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0590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867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5277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220968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114800"/>
            <a:ext cx="75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CB3-0C9D-411F-A42C-971E2964C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27200"/>
            <a:ext cx="4267080" cy="36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5334120"/>
            <a:ext cx="4267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375080" cy="25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8320" y="213372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657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338-E679-4584-A41F-B492A2FE8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39Z</dcterms:created>
  <dc:creator>Joyce Waid</dc:creator>
  <dc:description/>
  <dc:language>en-US</dc:language>
  <cp:lastModifiedBy>Joyce Waid</cp:lastModifiedBy>
  <dcterms:modified xsi:type="dcterms:W3CDTF">2006-04-01T20:19:34Z</dcterms:modified>
  <cp:revision>2</cp:revision>
  <dc:subject/>
  <dc:title>Content Standard 4</dc:title>
</cp:coreProperties>
</file>