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B2F-20C2-4BF2-A7FB-32FD975A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2F6-82F2-4869-A6C1-414780B3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6EB-5A71-4FF6-B8C1-E09C9C91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087-46F0-452F-901C-D5034972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ACA-FA4E-4CFE-A7AF-428703E5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072-CEBD-448F-A86D-11C89E1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E90-174E-4D35-976C-1F9AB503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533-527D-4DD0-BADA-7A6000F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2AB-17E1-42B0-B070-8A6B350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5CE-E8A7-44EC-B943-868D53E4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E0D-C6EF-4C90-8338-D2A96999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125-749F-4B98-B2A1-FA16245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C56-6877-4C62-BA13-5F0BCE11A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180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0800" y="44956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CCC-4AA9-4492-8718-A2AE194B05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405320" cy="517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4572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9B5-428C-4EC7-8188-F125043D60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97A-C404-4C00-AB6F-C50039225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7864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257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CA2-0AF5-4276-AE76-313C4FBDAB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192320"/>
            <a:ext cx="5105520" cy="496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5BB-B51F-4DFD-8851-90888E850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81480" cy="468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4952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ABE-003D-4814-BD4D-4A9EF30B97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02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39625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ED4-66F9-411B-9CA7-62D060FA2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9840" y="1133640"/>
            <a:ext cx="4932360" cy="496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C41-9D9C-4B19-BC4C-AC470AF66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92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0CC-7ED0-49E0-8E21-1C9AF9082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339920"/>
            <a:ext cx="5105520" cy="47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510552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CD2-1609-4C2E-9A31-D81BBDFFBF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29:47Z</dcterms:created>
  <dc:creator>Joyce Waid</dc:creator>
  <dc:description/>
  <dc:language>en-US</dc:language>
  <cp:lastModifiedBy>Joyce Waid</cp:lastModifiedBy>
  <dcterms:modified xsi:type="dcterms:W3CDTF">2006-04-01T20:30:10Z</dcterms:modified>
  <cp:revision>2</cp:revision>
  <dc:subject/>
  <dc:title>Content Standard 5</dc:title>
</cp:coreProperties>
</file>