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8670-C724-46FE-8957-D980F9C5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C0E7-063D-4EDE-AA4C-19385EAB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7B0A-54A9-441F-8AED-2FE467395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0135-11A7-4446-8EAA-EF0BF33FE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E461-5A94-4810-8997-760C68CD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F04A-2687-4492-B9F8-E47415C7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D171-0A52-4FF1-9BF1-8DC012E7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C252-4527-44F1-8E79-6E5C52C2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71D3-4736-4AEF-B539-A8F056E9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D157-D7BE-4CD2-9DAB-C80C0008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2929-F9DA-42E2-8278-F950DD75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A773-8722-427F-B49D-74DC83EC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752D-7618-4DB2-B2B6-B43A88F2D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11800" cy="4445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00800" y="449568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F043-EA4D-4674-B07B-28F4B696B2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4405320" cy="5173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867280" y="457200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3E46-73E5-43EA-9A5E-4D2D4E3A10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934320" cy="4392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733920" y="4724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9A6D-D39E-43D4-A561-EA52A14F71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4778640" cy="4682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57600" y="525780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3767-6B9E-4321-B56B-24465394C6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57400" y="1192320"/>
            <a:ext cx="5105520" cy="4965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038480" y="4648320"/>
            <a:ext cx="228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1731-5F33-4656-96F2-5C195B5BD8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57400" y="1380960"/>
            <a:ext cx="5181480" cy="4686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62520" y="4952880"/>
            <a:ext cx="152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6ACA-94C4-4A3C-ADF4-45A94702F4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5867280" cy="5021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191120" y="3962520"/>
            <a:ext cx="152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EEE6-D36D-438F-B796-DB0DA32BE1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39840" y="1133640"/>
            <a:ext cx="4932360" cy="4962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715000" y="49528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25DE-25AF-4FA9-A707-4E02E15E98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639040" cy="4921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181480" y="41911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9292-F037-4A2E-9EF0-1940F0BD4A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81080" y="1339920"/>
            <a:ext cx="5105520" cy="4709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705720" y="5105520"/>
            <a:ext cx="75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29AB-C8B9-47D6-BC0C-88E8FB6532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0:29:47Z</dcterms:created>
  <dc:creator>Joyce Waid</dc:creator>
  <dc:description/>
  <dc:language>en-US</dc:language>
  <cp:lastModifiedBy>Joyce Waid</cp:lastModifiedBy>
  <dcterms:modified xsi:type="dcterms:W3CDTF">2006-04-01T20:30:10Z</dcterms:modified>
  <cp:revision>2</cp:revision>
  <dc:subject/>
  <dc:title>Content Standard 5</dc:title>
</cp:coreProperties>
</file>