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97F-53D6-4291-A394-0DDA06CA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B4F-433C-4936-BA7A-C09D82C2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948-AFA1-4AC0-9CC8-E2C1BDE6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0E7-E14E-4050-9984-13003332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D4A-3F79-4D90-B56C-8A880BC8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6A1-085F-4DE2-BA0D-11203CE0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564-301D-40E2-A364-5491D102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110-F4F4-498E-85F9-D3997684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CE6-007C-414D-AD12-E6E5BABA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E25-120A-427A-9AF3-56B85477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5C3-FF22-41B4-AE73-FFCDD6AB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6ED-093D-416B-9D6D-7F8AA2DC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250B-59B7-4BDA-B5F1-7192DBB45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11800" cy="444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00800" y="44956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C23-1DB3-4503-923D-D078FBF426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405320" cy="5173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867280" y="45720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B72-A6D7-46F6-ADEC-D29A8C7B85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439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33920" y="4724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96C-5A5A-4DE2-BDEC-479CC0DC45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78640" cy="468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7600" y="52578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796-A81D-42A7-A87B-A24EA2B9C5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1192320"/>
            <a:ext cx="5105520" cy="496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46483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26E-881C-4CFE-A46D-20869DE63B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7400" y="1380960"/>
            <a:ext cx="5181480" cy="4686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62520" y="49528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CCA-0C0B-48B6-B0F6-07D9BED68E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867280" cy="5021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39625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D96-E0B2-4755-8469-75C19BB919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9840" y="1133640"/>
            <a:ext cx="4932360" cy="496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500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9FA-5761-489F-9DAE-CCA952A3D6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39040" cy="492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81480" y="41911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9FD-77AF-4F0F-8CA9-7F707B8AB2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1339920"/>
            <a:ext cx="5105520" cy="47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05720" y="510552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97D-F168-41E7-871C-4185096E03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29:47Z</dcterms:created>
  <dc:creator>Joyce Waid</dc:creator>
  <dc:description/>
  <dc:language>en-US</dc:language>
  <cp:lastModifiedBy>Joyce Waid</cp:lastModifiedBy>
  <dcterms:modified xsi:type="dcterms:W3CDTF">2006-04-01T20:30:10Z</dcterms:modified>
  <cp:revision>2</cp:revision>
  <dc:subject/>
  <dc:title>Content Standard 5</dc:title>
</cp:coreProperties>
</file>