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1EC-69ED-4998-8DA1-0D62CE6B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FF1-7DEC-4C11-90A5-B8A6DF2A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A3C-67CD-48D8-9761-3887DC7F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D90-51E4-4A8A-AB4D-4A0B1088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3BA-824A-4569-AA88-7472CCFD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4D7-895A-4FB9-8B9B-3F4F0807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39B9-0EB9-4CD5-9BE3-D79E218B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3B94-789A-450A-913A-23F5B7F3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E1D-0DF0-4A3F-8443-ACDE9FA8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87A-7043-45D4-B50A-47A1D2D8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04A-337C-4AB3-ADB2-628E19D8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710-ADBD-484B-B34A-352C36E4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49F5-7F9A-417C-ABCA-E2F684F4D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417680"/>
            <a:ext cx="5791320" cy="3917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0200" y="5334120"/>
            <a:ext cx="586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1447920"/>
            <a:ext cx="0" cy="3886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38862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7BE-DF29-4B41-A92C-C0EEDA77E1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705720" cy="5040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38480" y="51814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A44-BECF-47E8-8E1D-A335F6B176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3880" y="1131840"/>
            <a:ext cx="6019920" cy="453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77C-9DD8-4E88-89AD-84ADD315B5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4469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9880" y="457200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FAD-A0EE-432D-B36D-A55F220121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933960" cy="489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62320" y="5029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E079-73CD-46D2-83F7-E18245777E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47920" y="1074600"/>
            <a:ext cx="6553080" cy="493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ECF-7E1B-441C-B781-5A975C1C7E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1258920"/>
            <a:ext cx="6629400" cy="4492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15000" y="487692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2A6C-DDA3-49D0-85E8-055AB04429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1144440"/>
            <a:ext cx="6629400" cy="4730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86600" y="4876920"/>
            <a:ext cx="2286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C9E-8D2B-475C-B959-9E52B66A4A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47676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668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363-CBC9-4A53-A812-692C0F2F34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1160640"/>
            <a:ext cx="6782040" cy="4692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15000" y="48006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E2E-3E9C-4AB1-A3D5-DEA5DD6C61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52480" y="1287360"/>
            <a:ext cx="5867640" cy="4456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0" y="495288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408-F61F-4190-9079-34C2E22AFA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95880" cy="4568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66880" y="487692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F9F-A751-40A2-93DA-30F6FD233B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1192320"/>
            <a:ext cx="6476760" cy="463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38680" y="48006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CF8-3E94-421A-B141-AACFEA768B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1206360"/>
            <a:ext cx="6781680" cy="4710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66880" y="487692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407-BA88-4DEF-B038-A2891A7B65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0:40:45Z</dcterms:created>
  <dc:creator>Joyce Waid</dc:creator>
  <dc:description/>
  <dc:language>en-US</dc:language>
  <cp:lastModifiedBy>Joyce Waid</cp:lastModifiedBy>
  <dcterms:modified xsi:type="dcterms:W3CDTF">2006-04-01T20:43:51Z</dcterms:modified>
  <cp:revision>2</cp:revision>
  <dc:subject/>
  <dc:title>Content Standard 6</dc:title>
</cp:coreProperties>
</file>