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B76E-3A3C-4FCE-8625-9D196C32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6095-6E29-4D2F-8385-C581BC02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92DD-7F62-4FA0-8A0D-E5FC83C8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AF4-FFFB-4396-B4D3-850DD746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1C56-C4BB-4898-8611-8E7D8DDA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55B0-EF59-4088-8EDF-DDC68234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D48E-0AD6-49F5-8720-D953DC18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CD5-C286-478E-BECC-FA0D0D85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B9A7-2B2E-4C1D-862D-AB458995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277B-59FC-482D-ADF8-2404AE24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757-2C1E-440D-BC21-72775D6F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2B8D-60DD-4289-BDCA-B66F806E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80D3-2387-42DD-9964-732BF50F1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1417680"/>
            <a:ext cx="5791320" cy="3917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0200" y="5334120"/>
            <a:ext cx="5867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1447920"/>
            <a:ext cx="0" cy="3886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38862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ADAE-D9EF-4A6E-99CD-DD39E5DF6E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705720" cy="5040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38480" y="51814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AE3D-8A69-4ACA-83FB-CA84D2BF2D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3880" y="1131840"/>
            <a:ext cx="6019920" cy="453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296A-79BC-47B9-A756-C1334CF93F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25040" cy="4469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9880" y="457200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2780-E44B-4C39-8D28-CB4C761549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933960" cy="4897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362320" y="5029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2F50-9130-4C74-AF57-E7AF1B2F5B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47920" y="1074600"/>
            <a:ext cx="6553080" cy="493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6F4-D4E1-4B31-8A01-5124CC9AF4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1258920"/>
            <a:ext cx="6629400" cy="4492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15000" y="487692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CED-C684-44FC-BFC5-5887054B77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1144440"/>
            <a:ext cx="6629400" cy="4730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86600" y="4876920"/>
            <a:ext cx="2286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3FE-E0A9-423B-9F25-C92B23D529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47676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668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19F-D8E6-4EF9-B867-8E5C61A709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1160640"/>
            <a:ext cx="6782040" cy="4692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15000" y="48006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769-5A57-4239-BD31-1963A711E2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52480" y="1287360"/>
            <a:ext cx="5867640" cy="4456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0" y="495288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B80-6A9D-424A-87E9-A07C6A5D83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95880" cy="4568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666880" y="487692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CB5-8191-4F7B-930F-9B41F0E3E1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1192320"/>
            <a:ext cx="6476760" cy="4635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38680" y="48006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0AB-305F-4412-9433-3FDFF0923A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1600" y="1206360"/>
            <a:ext cx="6781680" cy="4710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66880" y="487692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9C69-AB51-4280-BD48-CD56129E63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0:40:45Z</dcterms:created>
  <dc:creator>Joyce Waid</dc:creator>
  <dc:description/>
  <dc:language>en-US</dc:language>
  <cp:lastModifiedBy>Joyce Waid</cp:lastModifiedBy>
  <dcterms:modified xsi:type="dcterms:W3CDTF">2006-04-01T20:43:51Z</dcterms:modified>
  <cp:revision>2</cp:revision>
  <dc:subject/>
  <dc:title>Content Standard 6</dc:title>
</cp:coreProperties>
</file>