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8E0-ECD9-46C4-9B6B-908EFFB7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84ED-25D7-4CB2-80E8-5F778121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960-0979-49CE-B576-AC181903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3DA0-8EC4-4E6F-8A98-73CD8973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8C7-57DB-462E-B4E5-BEA2A116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358C-4065-418E-A2B0-08576F0A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5E7-FC5B-4BC1-A5BD-53CCCE56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D68-59F8-4542-A0E6-E3E7338B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220-FA89-4EDF-B1C0-47FEC267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3A35-0C09-4A13-9109-2FE23D4A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E16-209F-409A-B536-B7BCB9FE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CAAD-214C-46A4-B8B6-956DCE81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3F6F-F584-4CA6-AD9C-B8A8B70F7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1417680"/>
            <a:ext cx="5791320" cy="3917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0200" y="5334120"/>
            <a:ext cx="5867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1447920"/>
            <a:ext cx="0" cy="3886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38862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47D-3F8E-481D-B995-EAB7CD5CFF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705720" cy="5040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38480" y="51814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FB4B-EB7A-4CBD-ADD0-5B9DB4711B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3880" y="1131840"/>
            <a:ext cx="6019920" cy="453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C41-D5F4-4FD7-8DC0-40C1563B5A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4469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9880" y="457200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D65B-AA30-4A91-9E44-7415811581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933960" cy="4897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362320" y="5029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A15-CCAE-4A40-B24C-71B15E38AF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47920" y="1074600"/>
            <a:ext cx="6553080" cy="493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209-C4A9-43B8-8716-BD6C12E30B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1258920"/>
            <a:ext cx="6629400" cy="4492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15000" y="487692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6F9-9F32-4C1F-AE31-5797440E9E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1144440"/>
            <a:ext cx="6629400" cy="4730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86600" y="4876920"/>
            <a:ext cx="2286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CEC-D007-4CA0-A9B6-2B00DB1B80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47676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668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FBC-20BD-452E-91A1-C1C7CF961B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1160640"/>
            <a:ext cx="6782040" cy="4692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15000" y="48006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70C-74A0-42EE-9311-DEE0A366BB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52480" y="1287360"/>
            <a:ext cx="5867640" cy="4456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0" y="495288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896-EABA-41E4-B6A7-CEA0332CC0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95880" cy="4568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666880" y="487692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9DC-EBA1-4361-9D97-1D1D9276BC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1192320"/>
            <a:ext cx="6476760" cy="463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38680" y="48006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9E8-7965-49F1-9966-59796D23B4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1206360"/>
            <a:ext cx="6781680" cy="4710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66880" y="487692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157-85A0-433C-9FFA-FBCA630B45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0:40:45Z</dcterms:created>
  <dc:creator>Joyce Waid</dc:creator>
  <dc:description/>
  <dc:language>en-US</dc:language>
  <cp:lastModifiedBy>Joyce Waid</cp:lastModifiedBy>
  <dcterms:modified xsi:type="dcterms:W3CDTF">2006-04-01T20:43:51Z</dcterms:modified>
  <cp:revision>2</cp:revision>
  <dc:subject/>
  <dc:title>Content Standard 6</dc:title>
</cp:coreProperties>
</file>