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60F-408D-40C7-BA89-3B23FB30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412-102D-4602-9DA4-2E12C767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7A5-6215-4B91-99EF-FF0554B6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6AD-1D92-448D-9A1A-245B3393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555-BEBA-4C05-8484-1BD2E2FF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A4F-C228-4C69-BFDE-F3CD2FA9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ED8-1BED-4646-964A-ED4507BD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E95-11BA-46C0-A1A4-AD58DFDF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88B-1FD7-40CA-ADB8-8DA187D5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47D-D2E9-47E4-A189-016FE494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E91-9745-4DEB-B0B0-C44F2719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D6A-897C-4735-9A9B-26764121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165A-5D8E-4368-BDAE-DA625D095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417680"/>
            <a:ext cx="5791320" cy="39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5334120"/>
            <a:ext cx="586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1447920"/>
            <a:ext cx="0" cy="3886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8862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A35-EFF4-403D-9B77-7A94FB55D5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705720" cy="504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5181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559-13EF-48B8-9734-4E7E2EBC86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1131840"/>
            <a:ext cx="6019920" cy="453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3AC-2C4B-474C-9F1A-38D069D310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446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9880" y="45720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A6D-3CDD-485F-8C46-A9B19E4CF9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93396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62320" y="5029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DF6-063C-46BC-A453-75103EA2AC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1074600"/>
            <a:ext cx="6553080" cy="49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5A4-5232-417B-BD6F-ED18B816D1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1258920"/>
            <a:ext cx="6629400" cy="44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48769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A6D-5A4B-477F-B00D-6866DA3BEA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144440"/>
            <a:ext cx="6629400" cy="4730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6600" y="4876920"/>
            <a:ext cx="228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E85-B3ED-4115-9A8C-D322A5427C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7676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7D7-2140-4778-9102-F330A58742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160640"/>
            <a:ext cx="6782040" cy="469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15000" y="48006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FBD-8FC3-4C30-92E8-C97A3D1C3A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287360"/>
            <a:ext cx="5867640" cy="445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495288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161-FF5E-4D95-9D58-E852B96C15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95880" cy="456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6880" y="48769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BD9-5A73-47E1-BDFA-395A0CBD51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192320"/>
            <a:ext cx="6476760" cy="463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86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1FD-CE48-48D5-ACE0-169170E6D2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206360"/>
            <a:ext cx="6781680" cy="471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66880" y="48769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0FE-07DE-4F46-BA23-B15D252B23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40:45Z</dcterms:created>
  <dc:creator>Joyce Waid</dc:creator>
  <dc:description/>
  <dc:language>en-US</dc:language>
  <cp:lastModifiedBy>Joyce Waid</cp:lastModifiedBy>
  <dcterms:modified xsi:type="dcterms:W3CDTF">2006-04-01T20:43:51Z</dcterms:modified>
  <cp:revision>2</cp:revision>
  <dc:subject/>
  <dc:title>Content Standard 6</dc:title>
</cp:coreProperties>
</file>