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34.wmf" ContentType="image/x-wmf"/>
  <Override PartName="/ppt/media/image13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EC8-D856-4879-88D4-645DF482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27F-7323-4F89-B15A-BDA9DDCE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BC0-39BB-4F95-86CA-4AE246DF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5F7-F32F-4B01-AD39-E6FB37A6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91C-F4BD-4448-AFA1-403D16D2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2B4-5A2C-4818-BF90-28985246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EC9-2DB9-4318-93BE-0CEAB13B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D2C-323F-4A28-97CE-539FEE68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032-C30D-4034-8D29-A7D561B0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EB2-0FA6-4826-97BA-6FEDB4B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EC5-4FC4-4900-9A03-51C3B84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C9A-1BF0-44F3-BEF0-D4F590D5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7F04-C203-4C29-87F0-373984679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991720" cy="72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231444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21970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24172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6095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354-E705-4E8E-B612-0816FB390C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119480" cy="494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6172200"/>
            <a:ext cx="41911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18240" cy="125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31240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3962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33A-148A-4A87-958B-9C4107FF6E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58672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81480" y="2583000"/>
            <a:ext cx="3613320" cy="1471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8153280" y="2590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834-68CA-4DD7-B03A-91F2ABDDA1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365720" cy="5029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087720" cy="1314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7010280" y="2514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CAC-4BAB-41F4-B377-F24364CF1D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275000" cy="49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735360" cy="1655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162920" y="3124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160-F212-4F32-960E-92FDF8A544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527720" cy="519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624852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41148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76920" y="228600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51D-B86C-413E-BC59-EB0C65724E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219320"/>
            <a:ext cx="4003560" cy="491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172200"/>
            <a:ext cx="3962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527360" cy="157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259092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35053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74D-4D0F-4D9C-8798-9C00C44F68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200480" cy="489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172200"/>
            <a:ext cx="41907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204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00600" y="21337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3526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87E-CE99-46B3-B651-9DD273CA4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444760"/>
            <a:ext cx="4070160" cy="209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0958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438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20040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75E-34AD-4FD2-A22B-E63A016680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054680" cy="487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527360" cy="1665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24382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53280" y="35053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18D-9B0B-4632-B645-2587406C22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109760" cy="479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16280" y="2514600"/>
            <a:ext cx="452772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251460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2FB-973F-4E7F-85FE-52FC7FAD89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9000" y="914400"/>
            <a:ext cx="8726400" cy="74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2220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223668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7400" y="3962520"/>
            <a:ext cx="21718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876920" y="4038480"/>
            <a:ext cx="221292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6172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2EA-F7D9-45DC-B971-BECADD12E9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101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20113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057400" y="4191120"/>
            <a:ext cx="1919160" cy="195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800600" y="411480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B6E-F980-49E7-B3BE-2208DFE935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54:21Z</dcterms:created>
  <dc:creator>Joyce Waid</dc:creator>
  <dc:description/>
  <dc:language>en-US</dc:language>
  <cp:lastModifiedBy>Joyce Waid</cp:lastModifiedBy>
  <dcterms:modified xsi:type="dcterms:W3CDTF">2006-04-01T21:15:43Z</dcterms:modified>
  <cp:revision>2</cp:revision>
  <dc:subject/>
  <dc:title>Content Standard 7</dc:title>
</cp:coreProperties>
</file>