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487-A0DC-43EA-BF49-09D1E25A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2CA-D6F5-4BA8-9FAA-921FF643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166-2F28-4779-9F43-0775790D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4DE-AEDF-44E7-BD2B-1B3F7280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2FF-94D0-4641-8DC6-61A72F7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263-D5CB-46E2-B5F7-6C677E95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00A-D84F-4A68-923E-9878A078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C97-B0D0-4A1A-BD7C-52C74F49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368-F9A6-4750-9BD6-603B5CE2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673-6C56-4EEC-8F67-0771DDD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3E3-C2F6-4FA2-B2A5-6576A725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6A6-16FE-4EC8-9254-0007A78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A85-4B0B-452F-9EA4-B7865E74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1444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2197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6095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851-A192-4A8D-8041-AF5583707E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9480" cy="494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172200"/>
            <a:ext cx="41911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18240" cy="125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31240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3962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85A-0B59-46BA-BDB3-BA28C66914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8672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2583000"/>
            <a:ext cx="3613320" cy="147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153280" y="2590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083-AB3C-4A00-8B2A-297F89B1B7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365720" cy="5029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087720" cy="1314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010280" y="2514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AA2-96AD-4A8E-BC1C-8C5116F9BF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275000" cy="49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5360" cy="165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162920" y="3124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6CF-92CC-4F8C-93C0-ECDFF85BA9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2772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1148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228600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E31-E911-4E54-BF12-D935720139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219320"/>
            <a:ext cx="4003560" cy="49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172200"/>
            <a:ext cx="3962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527360" cy="157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59092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35053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42D-22CD-4975-B4F9-75515F1D19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200480" cy="48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172200"/>
            <a:ext cx="4190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04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21337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438-DE95-4817-8ABE-571F38B42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444760"/>
            <a:ext cx="4070160" cy="20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58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438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200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780-87A8-4172-AD02-F52A878B65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54680" cy="48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527360" cy="166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24382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3505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143-9590-478F-BEB2-A36C2CDF18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10976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16280" y="2514600"/>
            <a:ext cx="45277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F9A-824C-4682-ABE4-8E8EDA3A4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9000" y="914400"/>
            <a:ext cx="8726400" cy="7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2220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23668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2129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172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137-067C-4DBD-9F85-860F9797FE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20113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919160" cy="195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CE5-7928-4698-ABA9-3BBF5E9DE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54:21Z</dcterms:created>
  <dc:creator>Joyce Waid</dc:creator>
  <dc:description/>
  <dc:language>en-US</dc:language>
  <cp:lastModifiedBy>Joyce Waid</cp:lastModifiedBy>
  <dcterms:modified xsi:type="dcterms:W3CDTF">2006-04-01T21:15:43Z</dcterms:modified>
  <cp:revision>2</cp:revision>
  <dc:subject/>
  <dc:title>Content Standard 7</dc:title>
</cp:coreProperties>
</file>