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16.wmf" ContentType="image/x-wmf"/>
  <Override PartName="/ppt/media/image8.png" ContentType="image/png"/>
  <Override PartName="/ppt/media/image9.wmf" ContentType="image/x-wmf"/>
  <Override PartName="/ppt/media/image34.wmf" ContentType="image/x-wmf"/>
  <Override PartName="/ppt/media/image13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54E-6CC1-419C-BF09-AEAB976D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69F-FD05-4EB8-9BD4-0AEBFF86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A0F-0BB7-4E6E-BBBE-C7CF39D9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22F-F358-4DDB-9C9A-28F4D670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412-A644-40EF-B73D-E8E12B9E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EB3-98D9-4198-8AF6-031BE0DD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141-7250-45F2-91E9-30D21567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3B0-9C31-4FA5-915F-69C95BAC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C17-B8AA-4248-A172-D9BE32B2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569-1C2F-417B-9A7E-0655B297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467-53FC-4C73-B78B-1D2A2606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01C-7C24-45B7-82AF-133B48BA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A831-84BB-4BF0-8FE4-CF6417B58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991720" cy="72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05120" y="3886200"/>
            <a:ext cx="231444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219708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24172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2200" y="6095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9EF-F490-46AE-8E40-808C291499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119480" cy="4949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6172200"/>
            <a:ext cx="41911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2786040"/>
            <a:ext cx="3918240" cy="1254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0120" y="31240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819520"/>
            <a:ext cx="39625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46D-4179-4612-A24B-230FB79428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4108320" cy="4797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586728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81480" y="2583000"/>
            <a:ext cx="3613320" cy="1471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8153280" y="25909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921-9DAF-4598-9EFE-9B24AA6749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365720" cy="5029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087720" cy="1314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7010280" y="2514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43B-3A11-4266-A13E-84A0613965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275000" cy="49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735360" cy="1655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7162920" y="31240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56D-2454-43C1-BF2F-C5419BEF2E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527720" cy="5192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6248520"/>
            <a:ext cx="44960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411480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76920" y="228600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23623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290-4DB7-4BF8-A58F-67D3F47228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219320"/>
            <a:ext cx="4003560" cy="491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172200"/>
            <a:ext cx="3962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4527360" cy="157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259092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35053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582-7460-48A3-BAC4-D0CE73077E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200480" cy="4892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6172200"/>
            <a:ext cx="41907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204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00600" y="213372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3526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178-D061-4CE4-A4E6-42E80C2CFC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444760"/>
            <a:ext cx="4070160" cy="209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4108320" cy="479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609588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438280"/>
            <a:ext cx="4038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200400"/>
            <a:ext cx="304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06C-7CC7-415E-9B42-456F13466C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054680" cy="487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601992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4527360" cy="1665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243828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53280" y="35053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7A9-8C7B-4474-9FA1-17183ECADB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109760" cy="4792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16280" y="2514600"/>
            <a:ext cx="4527720" cy="151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601992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251460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4680" y="266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340-D237-4C53-8FC3-B3A420F326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9000" y="914400"/>
            <a:ext cx="8726400" cy="74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2220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223668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057400" y="3962520"/>
            <a:ext cx="21718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876920" y="4038480"/>
            <a:ext cx="221292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61722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28F-E00C-4A16-A7B8-2007790D42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991720" cy="1017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201132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057400" y="4191120"/>
            <a:ext cx="1919160" cy="195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800600" y="4114800"/>
            <a:ext cx="1957320" cy="206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BBF-FC14-4124-BEE2-85E35B0483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54:21Z</dcterms:created>
  <dc:creator>Joyce Waid</dc:creator>
  <dc:description/>
  <dc:language>en-US</dc:language>
  <cp:lastModifiedBy>Joyce Waid</cp:lastModifiedBy>
  <dcterms:modified xsi:type="dcterms:W3CDTF">2006-04-01T21:15:43Z</dcterms:modified>
  <cp:revision>2</cp:revision>
  <dc:subject/>
  <dc:title>Content Standard 7</dc:title>
</cp:coreProperties>
</file>