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70A-F861-4CB0-8425-820880DC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E2B-32D9-4E21-8C10-57C3D3F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7C0-40A6-4B03-91B5-68CDAB4E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014-0682-45AE-9A11-106F63A8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693-1AAA-4D75-9895-BB55922E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008-992C-4EE4-892A-100CC227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E5C-AEC4-4A19-9BAE-5B4690FE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DB7-448B-4907-A576-9FDA353C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7D0-5874-4D75-9696-B2B4E9E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474-C91E-4E6B-8D3F-1DCB678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8AC-8BA7-4CB9-A4C0-BE1D324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CF1-A55A-4C91-B5E1-F9549F7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1FB6-D734-4EF9-96BD-76DA38071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991720" cy="72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231444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21970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24172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6095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282-18D8-4AFD-A10D-BC6CDCEF80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119480" cy="494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6172200"/>
            <a:ext cx="41911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18240" cy="125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31240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3962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825-061F-4B97-9C2F-1175F6E85F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58672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81480" y="2583000"/>
            <a:ext cx="3613320" cy="147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153280" y="2590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9C2-01C1-4E32-AB5F-5A81D837ED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365720" cy="5029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087720" cy="1314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7010280" y="2514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15A-2A2A-45A5-92B9-D87E39721F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275000" cy="49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35360" cy="1655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162920" y="3124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4A0-D83C-46B9-84FA-EE5541A2A4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527720" cy="51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41148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76920" y="228600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704-A7DA-49DE-A844-929C2058FE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219320"/>
            <a:ext cx="4003560" cy="491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172200"/>
            <a:ext cx="3962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527360" cy="157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259092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35053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263-5B7B-4CC5-AE6C-6C1D46378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200480" cy="489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172200"/>
            <a:ext cx="41907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204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21337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F8E-E874-4076-B0CC-30026792D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444760"/>
            <a:ext cx="4070160" cy="20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958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438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20040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1B5-6CAC-454B-B413-217175AB1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054680" cy="487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527360" cy="166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24382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53280" y="35053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0B2-0EE4-4765-86B0-58E273C5B1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109760" cy="479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16280" y="2514600"/>
            <a:ext cx="45277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251460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5DF-C746-4FD0-9D6B-6C6ADEDCEC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9000" y="914400"/>
            <a:ext cx="8726400" cy="74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2220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23668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7400" y="3962520"/>
            <a:ext cx="21718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221292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6172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7D7-711A-4B30-B50F-AEFD5B9964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101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20113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057400" y="4191120"/>
            <a:ext cx="1919160" cy="195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800600" y="411480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65D-EACB-4F5D-8F1B-23CACB60A1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54:21Z</dcterms:created>
  <dc:creator>Joyce Waid</dc:creator>
  <dc:description/>
  <dc:language>en-US</dc:language>
  <cp:lastModifiedBy>Joyce Waid</cp:lastModifiedBy>
  <dcterms:modified xsi:type="dcterms:W3CDTF">2006-04-01T21:15:43Z</dcterms:modified>
  <cp:revision>2</cp:revision>
  <dc:subject/>
  <dc:title>Content Standard 7</dc:title>
</cp:coreProperties>
</file>