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AD9-B82E-45C0-831C-E675BFE6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8CB6-37B7-43B8-891B-7B0C5A3D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8676-FE82-450D-ADCD-7BFCA875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4608-6058-445F-B15D-016A8320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4D1-9498-4E7B-A475-2375F05D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8D7-5AB9-41C2-B49E-D184F047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663-776D-439C-B4BE-DFD69072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52B-8F53-4305-9323-05C6E01E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A390-7D0B-4B23-895D-1B6680E1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3842-A1B1-4A18-99D6-072BF6EC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3594-A451-4675-AE75-09996779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874-E3FE-40F1-A419-E03713AB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EBDA-5FD4-44C2-8600-FBB8BCAE2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334120" cy="3335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666880" y="4572000"/>
            <a:ext cx="3915000" cy="1611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24480" y="44956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D80D-68F3-4BFD-A7D9-3D10C84E82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1360440"/>
            <a:ext cx="7086600" cy="4275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581280" y="4724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C411-C767-4623-9E22-99C2E83818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167360" cy="2376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275000" cy="2411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772400" y="38862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E881-8B45-4B62-AC4A-32BFB33B81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4238640" cy="290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267080" cy="1668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001000" y="3200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3EE-CB28-4D96-9446-FE30879D5B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275000" cy="3303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0" y="2552760"/>
            <a:ext cx="4191120" cy="1574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81880" y="37339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AE0D-4255-48A2-AB1C-B3A64F0BA3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4572000" cy="2774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4120" y="2209680"/>
            <a:ext cx="3276360" cy="1979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86600" y="2743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EA7B-FC01-4724-B136-2E0E481C7F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063000" cy="4778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8847000" cy="557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15540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25EC-21C1-44C4-8358-D70B5AF4B5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86600" y="2743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5338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38400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D5A-F65C-4FD2-8978-4266F92CA6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2743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4748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8400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3150-C3A0-4582-835F-260D0B1983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848360" cy="4264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86200" y="46483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CFBA-9AE5-4712-806E-78C59E8E41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543800" cy="4195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81680" y="4495680"/>
            <a:ext cx="609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3D8-45E0-4B00-AB1F-1BD6F9C7C9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167000" cy="370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69000" y="2362320"/>
            <a:ext cx="4275000" cy="2484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077320" y="388620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5A93-2BA9-4450-A054-F9D7DF8482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09680" y="1271520"/>
            <a:ext cx="5029200" cy="459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29400" y="4343400"/>
            <a:ext cx="304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E2A2-B549-42C9-B027-F516040B78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1217520"/>
            <a:ext cx="5867280" cy="472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10080" y="54864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66E6-F3CE-465F-94FA-761C1ED974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2480" y="1263600"/>
            <a:ext cx="5943600" cy="4564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315200" y="32004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1AE7-04C6-42F4-8D1E-665F2CCF3F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311720" cy="426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4267080" cy="137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534520" y="2362320"/>
            <a:ext cx="152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D3A-57AF-4B57-BA17-9C38C9F4ED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275000" cy="3249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4047840" cy="1440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610480" y="312408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0E0-F950-495C-8386-27072DDB85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1:16:23Z</dcterms:created>
  <dc:creator>Joyce Waid</dc:creator>
  <dc:description/>
  <dc:language>en-US</dc:language>
  <cp:lastModifiedBy>Joyce Waid</cp:lastModifiedBy>
  <dcterms:modified xsi:type="dcterms:W3CDTF">2006-04-01T23:35:38Z</dcterms:modified>
  <cp:revision>3</cp:revision>
  <dc:subject/>
  <dc:title>Content Standard 8</dc:title>
</cp:coreProperties>
</file>