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0D4-B673-4A6E-961C-99E1709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105-56E3-4933-A175-1352066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D70-D2EF-49FF-9CA3-A88B1058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1CE-8359-4FAD-90FB-FC6E8A59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B6D-BE80-4702-A997-0948E51E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532-ECAB-41CE-A638-A498701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403-1306-4CCE-9292-66C98656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B7D-7DA0-4010-A251-28FE6DE1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AB0-AF87-4934-A195-C84A7BE9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AF1-02F2-41DF-95B8-E3D04BC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3AA-223E-4712-B49E-96275AFC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1F6-197D-46AA-A9CB-FB40FEF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745C-280C-474C-B594-3F2D3491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333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915000" cy="161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4495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BC6-75E4-435B-A5D7-6F33059E4C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7086600" cy="427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4724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39A-A4A4-4070-A2D7-0EF4F76CC7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6736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7500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3DC-8516-4994-BE7A-1D582C7C9C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238640" cy="290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16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E4E-F3C0-408D-A531-A62D78169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275000" cy="33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2552760"/>
            <a:ext cx="4191120" cy="157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1880" y="3733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08B-454C-41DA-9257-C3B9AA106D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4E6-B9CD-4932-B268-1DD0BA4DB2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63000" cy="477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8847000" cy="55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54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D27-2B7B-480E-9251-CD79C835F6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840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8BE-0060-47B3-AC8C-6843D8A005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748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8400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23D-0467-480B-813F-1C4A84BE38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64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93A-8CEB-40D2-A93D-D055C198D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49568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8D8-E4AD-4D4F-A896-129D3968B2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67000" cy="37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9000" y="2362320"/>
            <a:ext cx="427500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38862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FCD-65E7-4E93-8E91-D4F52519C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271520"/>
            <a:ext cx="5029200" cy="459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3B1-8443-48D5-8F7C-FE5CE5768F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17520"/>
            <a:ext cx="5867280" cy="472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54864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9CC-75F6-4B31-9680-9EC5534FA1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263600"/>
            <a:ext cx="59436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15200" y="3200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9A3-BB23-43D3-B6EE-E4F6EC41B6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1172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426708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679-6FBC-4641-8B0A-564503BF67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75000" cy="32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4784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610480" y="31240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FD2-7F21-4640-AFD9-1AA9BB9408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1:16:23Z</dcterms:created>
  <dc:creator>Joyce Waid</dc:creator>
  <dc:description/>
  <dc:language>en-US</dc:language>
  <cp:lastModifiedBy>Joyce Waid</cp:lastModifiedBy>
  <dcterms:modified xsi:type="dcterms:W3CDTF">2006-04-01T23:35:38Z</dcterms:modified>
  <cp:revision>3</cp:revision>
  <dc:subject/>
  <dc:title>Content Standard 8</dc:title>
</cp:coreProperties>
</file>