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ACD-8B35-438A-899D-D52AD7CD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DB9-7EFE-4C4A-B25A-8A70AF35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053-5E52-4373-9E68-98A022A4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917-DDD2-443C-9FF0-3D376E2A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892-5AC5-4545-A80B-CDF7A0C2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8291-3888-43F4-98C2-ACCCFA91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FA7-CC43-4BC0-B731-37B6C836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6A5-88C4-4C31-A50B-247571EE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042-64C7-4880-85CC-0781F34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F3E-6B8B-41CE-8307-F919288B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00A-EEE9-4F2B-BFEA-2728EAA5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0CE-9143-476C-85B4-3354FCC0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B93E-086E-4144-9F11-702E07236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336680"/>
            <a:ext cx="4724640" cy="418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495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794-E333-44F0-9C35-97F0B9CF6C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985920" cy="361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75000" cy="13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F13-CBA6-4A15-B33A-EDA3DCDA82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39920"/>
            <a:ext cx="6858000" cy="437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E33-C091-401C-AE5A-0B589C21F3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436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449568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E06-7AE1-492B-B954-F09FAFD7CC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11120"/>
            <a:ext cx="7238880" cy="447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6576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1E8-AABC-44C8-9683-8533DBB9D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364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4114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61E-BE76-4F21-9E86-5D1A825AFC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80988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724640" cy="26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36576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BD1-7749-4B04-80D4-E758F81DD8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369120" cy="3003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473-33D8-4F24-8EBE-AA3824B6BA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77320" cy="302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6CA-FBD7-40A8-B81C-A2EB6140A2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30640" cy="30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24480" y="2057400"/>
            <a:ext cx="4619520" cy="15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43D-3796-43E9-AF4F-77C4F332BD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15:00Z</dcterms:created>
  <dc:creator>Joyce Waid</dc:creator>
  <dc:description/>
  <dc:language>en-US</dc:language>
  <cp:lastModifiedBy>Joyce Waid</cp:lastModifiedBy>
  <dcterms:modified xsi:type="dcterms:W3CDTF">2006-04-01T22:15:05Z</dcterms:modified>
  <cp:revision>1</cp:revision>
  <dc:subject/>
  <dc:title>Content Standard 9</dc:title>
</cp:coreProperties>
</file>