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A9F5-76F9-4E92-B589-82F1F123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9A7C-7E09-47EC-B12D-51508507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AA64-DAFB-4ADF-854F-812B3CB8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68BC-DB01-4475-B2BF-AA742A60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A69A-E652-4BFF-98E3-7CDABA85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88CF-D40F-46B0-B91B-EF199743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97C8-BE50-477B-9193-4D6344EC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92B3-F198-46F6-BB69-385A2676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BD1A-E369-47D2-B371-0313B0B3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A16D-5761-4874-9F21-0E077D64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5A10-BF91-4A0D-BC1D-7970E522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98D3-F69F-410A-B1F0-0FD89B59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CBAB-A996-4EBD-8C90-8D09C68ED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9680" y="1336680"/>
            <a:ext cx="4724640" cy="4184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0" y="44956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9389-3B00-4667-A10A-47751C49FE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56120" y="1295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985920" cy="361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275000" cy="13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07B1-7956-47F5-AEA2-2CC97F4C99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95280" y="1339920"/>
            <a:ext cx="6858000" cy="4373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1500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59E8-025B-4FF7-A22F-B61D5F1C13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10280" cy="4361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429000" y="449568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83DE-1627-4EBF-9EB1-B44291095D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1311120"/>
            <a:ext cx="7238880" cy="4470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971800" y="365760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EEA8-AE1F-4AF1-B88E-C250183F1D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790960" cy="3649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00400" y="41148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0A2C-ED02-43FC-B518-A2AC5E4FEB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3809880" cy="2881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267080" y="1981080"/>
            <a:ext cx="4724640" cy="2605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715000" y="36576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FA5C-299F-43F9-BDE0-EDEAE9F97A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369120" cy="3003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156120" y="1295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C269-6B72-4382-A82D-1854242D36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8077320" cy="3027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156120" y="1295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4CE1-09D6-4790-BB7C-5A837DEF37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56120" y="1295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4130640" cy="3014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24480" y="2057400"/>
            <a:ext cx="4619520" cy="155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BBA7-3C63-4108-8B3D-869959C4C2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2:15:00Z</dcterms:created>
  <dc:creator>Joyce Waid</dc:creator>
  <dc:description/>
  <dc:language>en-US</dc:language>
  <cp:lastModifiedBy>Joyce Waid</cp:lastModifiedBy>
  <dcterms:modified xsi:type="dcterms:W3CDTF">2006-04-01T22:15:05Z</dcterms:modified>
  <cp:revision>1</cp:revision>
  <dc:subject/>
  <dc:title>Content Standard 9</dc:title>
</cp:coreProperties>
</file>