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media/image12.wmf" ContentType="image/x-wmf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EB62-5976-4D52-A1AB-0EBD55F2F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BFC2-A8F9-4879-B882-C4CA6919D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3FF0-6AE3-403B-B31F-8826873F2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9C17-9B37-41B9-8AD9-51705AEEA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2DEF-E648-44B8-BFB2-656C9913B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6572-A13A-4AEF-B1DF-F9C3CCC9A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6D4F-95D1-4502-A9C0-680A62A72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B2B2-D730-491E-AF14-D0E8D4718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9234-2CD8-4CD3-9472-C542FB405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1104-A6C3-4E95-BB5C-A887E04D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19A0-9DA1-4657-AEF6-B99A4525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B91E-21F2-40AA-A007-4070333B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261E7-01A1-45B2-9590-8C1FA2C32D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09680" y="1336680"/>
            <a:ext cx="4724640" cy="4184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657600" y="4495680"/>
            <a:ext cx="1522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07B9-6239-45C0-92F3-C940E5C2D26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156120" y="129528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3985920" cy="3618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4275000" cy="13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7AC9-708D-48A2-A17C-8806D20D8CC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295280" y="1339920"/>
            <a:ext cx="6858000" cy="4373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715000" y="51814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F562-90D2-47C6-A153-3158241ABBF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7010280" cy="43610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429000" y="4495680"/>
            <a:ext cx="380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2696-4AB5-423C-A01D-27BED5A8EA9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143000" y="1311120"/>
            <a:ext cx="7238880" cy="44704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971800" y="3657600"/>
            <a:ext cx="380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E0B4-2301-482F-8CC1-1B20FB7E118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5790960" cy="36496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200400" y="41148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AECC-E46F-49EF-8AB2-335753F0A57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3809880" cy="2881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267080" y="1981080"/>
            <a:ext cx="4724640" cy="2605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715000" y="3657600"/>
            <a:ext cx="152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499A-AB39-4C3F-9C4D-1F3474892FE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6369120" cy="30038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156120" y="129528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350F-5439-4086-AB00-71F7CBC3B8D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8077320" cy="30276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156120" y="129528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ADE5-BCC7-4C8C-AD89-7764A5972BD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156120" y="129528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4130640" cy="3014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524480" y="2057400"/>
            <a:ext cx="4619520" cy="155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8D51-7347-4DF6-9571-3FDE78F525E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1T22:15:00Z</dcterms:created>
  <dc:creator>Joyce Waid</dc:creator>
  <dc:description/>
  <dc:language>en-US</dc:language>
  <cp:lastModifiedBy>Joyce Waid</cp:lastModifiedBy>
  <dcterms:modified xsi:type="dcterms:W3CDTF">2006-04-01T22:15:05Z</dcterms:modified>
  <cp:revision>1</cp:revision>
  <dc:subject/>
  <dc:title>Content Standard 9</dc:title>
</cp:coreProperties>
</file>