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C18-646F-49D2-9BC4-C4DA458C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823-2301-440E-BE4F-0E52B017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588-1462-4949-BB00-74D874BD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696-155E-44F2-8935-FD9E36F7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7C1-027E-41D9-AF8F-03C9676E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1AA-4BFB-4B79-9BCC-C09066E5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9FB-9F51-49AE-92D4-DD94646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ED4-4E9D-4FA2-9038-0DCB3CD4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F8F-59F5-4C86-8E69-6E5F5DB4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CFF-14C9-4162-BEAA-D2146ABE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758-D7D1-4067-87FE-D2EA423F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6B7-0E07-4D55-A939-515F981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1255-E3F0-4C39-ACF5-421486FCB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336680"/>
            <a:ext cx="4724640" cy="418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495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AF6-BC33-48BC-85F5-E3A99122E9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985920" cy="361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75000" cy="13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274-0F7E-498D-A756-280ACD4F58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39920"/>
            <a:ext cx="6858000" cy="437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2C3-77A9-4691-B5E6-B7355B0481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436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449568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CE2-764E-4291-A0FD-BA095743B9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11120"/>
            <a:ext cx="7238880" cy="447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6576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D18-7166-4FBE-939F-ED5E8E1F41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364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4114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093-3716-4A46-85B7-555D538052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80988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724640" cy="26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36576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FD8-FD86-4029-950F-06BA1FB21F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369120" cy="3003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EC0-490A-4463-92F9-1303BE99B6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77320" cy="302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DAE-36D0-4ED1-9857-AE54A52F70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30640" cy="30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24480" y="2057400"/>
            <a:ext cx="4619520" cy="15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677-67A5-4F3E-B61B-604A5D4C2B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15:00Z</dcterms:created>
  <dc:creator>Joyce Waid</dc:creator>
  <dc:description/>
  <dc:language>en-US</dc:language>
  <cp:lastModifiedBy>Joyce Waid</cp:lastModifiedBy>
  <dcterms:modified xsi:type="dcterms:W3CDTF">2006-04-01T22:15:05Z</dcterms:modified>
  <cp:revision>1</cp:revision>
  <dc:subject/>
  <dc:title>Content Standard 9</dc:title>
</cp:coreProperties>
</file>